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pu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F87-D3F1-4ACF-A4B4-F235E54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306-1266-46BA-B253-9857E95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E6B-EF1C-44FE-ADC9-282FFB86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FB7-AD44-45A8-AD3C-2F64F33A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D19-B798-43F6-A3A4-9F4D5A91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38C-802C-419A-AF8C-A8A32F9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AF3B-679E-4C67-A276-5547D17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9C9-4300-4CDC-9293-C8414FA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67B1-CCC7-4FAE-A68A-3E20703A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F93C-1304-47CE-9567-16894CF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6A5C-041D-4D72-811F-B152BC7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B42-BDA4-4A10-96C2-63DB63B1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BCB0-7695-47C3-94D5-40DD758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FBE-7844-415B-88D4-2C46C99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42E0-025E-4162-975D-714CA556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7E4D-807B-47A7-87F4-1AEF9A90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D15-A8E9-4962-A0CF-828D15E8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BEE-C979-42A6-ABD0-C21C8F62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CEE-812A-408D-96BA-88ECD18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F59-6ACE-4797-8F4C-580461E3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AA5-CD7B-480D-B514-CFA7F11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153-2E96-4D24-9E95-B7107D0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E49-1226-4835-AF9E-1A7E93C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D51-0ACF-43F3-9F40-D14BFCA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313-50C3-4489-B80E-4682A31E9D5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37D3-5759-44EF-90F2-19811EFD7DF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wipe dir="r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y to always use labeled units so you will be able to know which coefficient goes on top and which goes on the bottom of the f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dissolve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required to react with 15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quation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are trying to fi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that is what we need to react w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ing the ratio to find how many of an element reacts with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 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react with 3 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the formula to answer this would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# of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15 molecul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 1molecule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/3molecules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5 molecules of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2:13:29Z</dcterms:created>
  <dc:creator>Esther</dc:creator>
  <dc:description/>
  <dc:language>en-US</dc:language>
  <cp:lastModifiedBy>Esther</cp:lastModifiedBy>
  <dcterms:modified xsi:type="dcterms:W3CDTF">2009-02-22T03:05:37Z</dcterms:modified>
  <cp:revision>5</cp:revision>
  <dc:subject/>
  <dc:title>Using Coefficients</dc:title>
</cp:coreProperties>
</file>