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pu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D37-F45F-4ECD-AD70-41DAFB28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DE4-ED1E-46AB-9681-A601909C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0A2-EBFA-4EDC-A693-35B140F2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B413-6B1A-4B68-BB41-D425335C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926B-19D3-4C36-ADC0-5E3F10B4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67E3-3CF8-4260-959C-DE2DB038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67CD-040E-4A32-AC12-F4F00B3F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1E06-8FD8-424A-9D96-154495BD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0A34-4C2A-49E4-82E1-1CBDDBBD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CFE7-EAA4-4963-AAC0-C19CCC61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882B-2951-47B0-B97A-B87F0060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147-5A37-4AC6-A200-A64C4B23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4E5B-9160-4EB1-8D39-9F7CEF09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FB9E-5A65-4084-81DA-00EC65FB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BB55-2BA2-4E5B-A854-EE8E13B2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86DE-F85E-4104-A29B-0B333C1C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4C07-FF46-4935-A63B-AB1CC4EB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A10-E938-4217-94E0-14AB6ABE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070-2DE2-4D25-B0CF-820597F1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D07-E033-4846-9686-C55C3713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4AC-0F71-43C4-9F63-884B92C7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3B0-45DB-49D4-9131-D4F2D4A4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733F-88D1-4ECB-9AAA-63A9E327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332-AF0E-4E04-9131-507A3CDB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3B72-5A63-4AE8-8EA0-0DBA5938B84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3085-36C0-44B4-852D-64BA2F82AC1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wipe dir="r"/>
    <p:sndAc>
      <p:stSnd>
        <p:snd r:embed="rId2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vi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y to always use labeled units so you will be able to know which coefficient goes on top and which goes on the bottom of the fra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dissolve/>
    <p:sndAc>
      <p:stSnd>
        <p:snd r:embed="rId2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any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e required to react with 15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n the equation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3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any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e required to react with 15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n the equation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3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any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e required to react with 15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n the equation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3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that is what we are trying to fi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15 molecules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that is what we need to react wi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15 molecules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 1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/3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ing the ratio to find how many of an element reacts with anoth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15 molecules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 1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/3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 5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02:13:29Z</dcterms:created>
  <dc:creator>Esther</dc:creator>
  <dc:description/>
  <dc:language>en-US</dc:language>
  <cp:lastModifiedBy>Esther</cp:lastModifiedBy>
  <dcterms:modified xsi:type="dcterms:W3CDTF">2009-02-22T03:05:37Z</dcterms:modified>
  <cp:revision>5</cp:revision>
  <dc:subject/>
  <dc:title>Using Coefficients</dc:title>
</cp:coreProperties>
</file>