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pu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DF0-41FA-4064-A8E2-F4CA68DE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EA2-FA57-4A01-B76D-CCAD4AB8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88D5-8407-4750-BB23-2C013500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C43-63C1-49DC-922C-EAAE28B5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153F-5E71-4318-9E5B-AD29F7B2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7F1E-0964-40B6-8AC1-D1A3CD3E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B37B-10E0-49C0-8B66-A0B9F6E2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DE0C-8BEC-44DA-A0DF-BD2323F4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4717-462C-4EB1-943D-1664948A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D3B8-DB0A-407C-B145-1A21653C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5F45-D1D6-492E-87CB-775030BB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E36-08A8-4FD4-BB5A-CF15181C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400F-22CC-44DF-83EE-D64DB2E2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CC2B-5A30-4958-ABCE-45191CC7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C0FA-F3B5-4669-A8DC-C2BE92BB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97F0-AE53-4C6A-B6BC-548A0CDD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1676-2C8C-44D1-BBB7-D024AF5E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B32B-A63C-49AB-9848-5AFDA331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554-C22E-4477-8C5E-75502805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CA0-4373-4B56-852F-5299E1FB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779-7A0A-4C45-8E23-A152E796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56D-53B9-4174-A6A5-34661535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CF8-B026-4799-95C6-3190CD84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07A-02EF-4E08-A16A-6B014947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C01A-37E6-457B-9904-EA07D26DA0D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9B34-FEB2-4532-B789-6E6582730AE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wipe dir="r"/>
    <p:sndAc>
      <p:stSnd>
        <p:snd r:embed="rId2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vi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y to always use labeled units so you will be able to know which coefficient goes on top and which goes on the bottom of the fra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dissolve/>
    <p:sndAc>
      <p:stSnd>
        <p:snd r:embed="rId2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any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e required to react with 15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n the equation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3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any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e required to react with 15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n the equation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3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any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e required to react with 15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n the equation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3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that is what we are trying to fi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15 molecules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that is what we need to react wi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15 molecules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 1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/3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ing the ratio to find how many of an element reacts with anoth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15 molecules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 1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/3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 5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02:13:29Z</dcterms:created>
  <dc:creator>Esther</dc:creator>
  <dc:description/>
  <dc:language>en-US</dc:language>
  <cp:lastModifiedBy>Esther</cp:lastModifiedBy>
  <dcterms:modified xsi:type="dcterms:W3CDTF">2009-02-22T03:05:37Z</dcterms:modified>
  <cp:revision>5</cp:revision>
  <dc:subject/>
  <dc:title>Using Coefficients</dc:title>
</cp:coreProperties>
</file>