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1AF-66BB-4402-A10B-B32554E3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1C4-CFBF-441D-86E7-5CE8DD7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17B-4495-4F13-A40F-6AED1417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601-1183-43BE-BA6B-CC4FD9C5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2F0E-85FD-44FA-B894-03EC60A6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C931-F26F-4D6B-B914-065BE72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3F0-7CCA-4021-A96D-4438913E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CFE8-FDED-4D27-BA9A-7C6EDFF1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0704-2113-4D41-BC03-2C20891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0608-E2B9-4E57-A3BF-8811777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90D7-9D9F-46BA-9777-BF36AE6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A27-0D29-4946-AB7C-C9E4ECC5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6770-9BFC-4A22-8EB2-81252812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C12-CCEA-4B55-B37A-A37EB7C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09C-2353-43E4-AB85-228A694F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2820-41CD-4A73-9D59-3CA67352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8F38-9384-424D-91E3-99C231C4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A18-5F63-46D0-BC39-F23C1AF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719-F7AE-46F4-86E3-36FE870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BB1-ED99-4AC3-9FC8-5F998A4F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CA4-B832-46E0-BE8A-F46E946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551-8384-4915-81DE-3A05A8D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D8C-FB6C-4398-8C72-B771177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713-4F00-4F77-BC49-D172468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0F54-C3F5-48E4-937B-DA2F3769622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63D-132D-42BE-A5A0-35100609929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wipe dir="r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y to always use labeled units so you will be able to know which coefficient goes on top and which goes on the bottom of the f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dissolve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are trying to fi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need to react w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ing the ratio to find how many of an element reacts with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5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2:13:29Z</dcterms:created>
  <dc:creator>Esther</dc:creator>
  <dc:description/>
  <dc:language>en-US</dc:language>
  <cp:lastModifiedBy>Esther</cp:lastModifiedBy>
  <dcterms:modified xsi:type="dcterms:W3CDTF">2009-02-22T03:05:37Z</dcterms:modified>
  <cp:revision>5</cp:revision>
  <dc:subject/>
  <dc:title>Using Coefficients</dc:title>
</cp:coreProperties>
</file>