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73AC-E641-4414-BECB-DCC3319BB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34BA-16EA-4AAF-9850-CFFA097E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356A-EAA8-43C2-BE1A-C9BCA62F2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C59C-B902-4A6E-897D-19071CC1D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8A04-F7F3-4ECB-A30C-8ED6D21A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CA97-34D9-4904-A9F0-EFA4059E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2D81-BBE9-4FCE-80E0-AC573122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F68E-1E92-4B94-9E0E-38685309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BD1F-DE07-432D-9DD8-75ABC5F3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4C15-046A-47D9-AD0A-993F4AAB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E573-1EEB-4A42-8C0C-C5FCAD6C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55EC-428F-423A-9A52-F5250DDF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D135-3983-4CD6-8F02-80596665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7026-76BA-48F5-A954-64AC26B3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38B8-F5A8-441D-BF75-6A84DC10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57E1-DDE3-46CD-846C-43525D5AB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5BBD-E20C-460C-B19B-C57C820D9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222E-EDE4-4BCB-9420-C1DAFD78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1C0D-7643-4DE5-B802-189150C9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E57D-E6D7-4671-B4AC-56A83EDC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30C0-62B5-47B6-91B8-2D6C83B0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BFC2-18C5-4DFF-B531-6D2D3FBC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2C83-68E5-4C36-84C9-5E81AB73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FBBA-3DDF-495E-8083-F307CE58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3BE7-B55E-4861-AE4A-38D80B7ECE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C9FF-7D0A-4777-A082-80DA1E1FDB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Physical Separation of Substan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48320" y="266688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til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2666880"/>
            <a:ext cx="3352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2666880"/>
            <a:ext cx="457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50292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: Allan Y, Pauline W, Alex W, and Justus 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3886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4419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3276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36880" y="3276720"/>
            <a:ext cx="21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apo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6720" y="3886200"/>
            <a:ext cx="29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rystall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19600" y="4419720"/>
            <a:ext cx="39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per Chromatograp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0280" y="327672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nd S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2600" y="3886200"/>
            <a:ext cx="322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vent Ext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0640" y="4419720"/>
            <a:ext cx="32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vity S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# 1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xtraction of a solid from a mechanical mix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is method requires a liquid that dissolves one or more solids present so the desired product is left behind or dissolved and separated by evapo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6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#2 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xtraction of a dissolved liquid or solid from a liquid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 carry out this technique, a solution with one or more solid and/or liquid substances dissolved in a liquid solution, a solvent must contain two propert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7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added solvent is immiscible with the solvent pres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added solvent dissolves one or more desired substances from the substances and leaves behind the unwa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fter the solvent is added, the mixture is mixed in a separatory funnel and the added solvent is drained from the original solv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2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RECRYSTYALLIZ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Recrystallization is a variation of evaporation in which a solid in a solid-in-liquid solution is separated in a pure crystalline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A saturated solution must be prepared in order for recrystallization to occ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A solid is added to a solvent until no more solid can dissolve and adding just enough hot solvent to dissolve the solid, the mixture is allowed to cool and evaporate, forming crys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8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Once the crystals have formed, they are removed by either hand separation or fil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ravity S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aration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two components of a homogeneous mix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larification and thickening are two different products from the same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ethod: in a mix of a solid and liquid, the solid will gradually gather at the bottom of the container while the liquid remains on t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ravity S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Clarification wishes the purified liquid at  the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Thickening wishes the purified solid at the e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hen feasible, centrifugal force may also be used in place of gravity (faster separation due to higher pressure upon conte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for the separation of liquids from sol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320040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involves a liquid (filtrate) that is passed through a filter; the material that remains on the filter is called the resid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lt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aper Chromatograph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arates small amounts of Solid-in-Liquid solutions containing two or more dissolved sol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requires a drop of the mixture placed near the end of a sheet of absorbent pap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at end is dipped in the “developing” mix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aper Chromatograph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the solvent gradually travels up the sheet it will carry along the dissolved sol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dge of the solvent’s travels is known as the “solvent fron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ending on how readily the solids are dissolved by the solvent, various streaks of color will appear behind the solvent fro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END!!!!!!!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lt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tration cannot be used to separate dissolved solids from a liquid (filtration only works when the solid particles are big enough to be seen)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stillation</a:t>
            </a:r>
            <a:r>
              <a:rPr b="0" lang="en-CA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752480"/>
            <a:ext cx="7238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liquid with the lowest boiling temperature in the solution boils first, the vapor produced ascends to the top of the distillation flask, passes a thermometer, and enters the side-arm of the flask which leads to the condenser. As the vapor enters the cold inner surface of the condenser, the gas cools and condenses back into a liquid, which drips out the end of the condenser as the distil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and S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Separation of MECHANICAL MIX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Can often be separated by HAND or by use of SIEVE or MAG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宋体"/>
              </a:rPr>
              <a:t>Evaporation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宋体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Separation of SOLID-IN-LIQUID 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an often be separated by allowing liquid to EVAPORATE or to be BOILED AWAY, leaving sol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OLVENT EXTRA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re are two ways in which this technique can be used …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6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0:00:25Z</dcterms:created>
  <dc:creator>Justus</dc:creator>
  <dc:description/>
  <dc:language>en-US</dc:language>
  <cp:lastModifiedBy>Justus</cp:lastModifiedBy>
  <dcterms:modified xsi:type="dcterms:W3CDTF">2009-02-26T06:02:10Z</dcterms:modified>
  <cp:revision>13</cp:revision>
  <dc:subject/>
  <dc:title>The physical separation of substances</dc:title>
</cp:coreProperties>
</file>