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A1949-C246-4051-BD74-0DC0DEFE1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DAEC4-B8FB-4AD7-A713-233780B3B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FC9BA-D7FF-498F-83A4-8CEACBE10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21EEC-DDD0-4126-B2BB-4B2065ABE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0A10F-41A0-48CE-86A8-FCD17D8F6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6CBB9-A965-4968-80CC-AA577C0A9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8C89F-AEDE-4486-8388-CB90B8B80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BDEE9-FB35-414A-BB1C-863522B00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0A7A9-36F4-438A-BC8A-6E2CFA7A5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285EF-47E2-4C01-9CC2-082F17AAA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FC829-1105-4AE5-ABF6-0279F959D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4FB29-3105-4F37-884F-40BC14238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AAB5E-718C-435C-ADE6-A5B4ACC3C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1E692-BB4E-4815-BEFD-F57C7539A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F357B-0759-4A00-BFA8-01AD1C98D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9D882-A874-45E4-AD71-360C5F229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54F2C-DFA1-4217-B741-DA73D6568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6D469-EE87-4C95-BFCB-EC167A118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45BE4-9BFE-438B-AFDC-7517AF27A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92C83-F13E-4595-A96D-9725C3F5C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6026C-AA90-4E5C-B92F-46194151A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120BE-6D25-4054-BE9D-00D759EB2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68235-437C-4933-B1C4-C72FF39E4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63790-3FBA-456F-9AEE-BDA68DBE5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26896-5C51-4411-B1B7-6030C2D35B8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EA6D5-E1E9-41E7-AD9B-DA2C4EE4680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The Physical Separation of Substanc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648320" y="2666880"/>
            <a:ext cx="40384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still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57200" y="2666880"/>
            <a:ext cx="33526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ltr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038480" y="2666880"/>
            <a:ext cx="4572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9480" y="5029200"/>
            <a:ext cx="792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y: Allan Y, Pauline W, Alex W, and Justus 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038480" y="38862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038480" y="44197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038480" y="32767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636880" y="3276720"/>
            <a:ext cx="217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vapor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256720" y="3886200"/>
            <a:ext cx="2942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rystalliz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719600" y="4419720"/>
            <a:ext cx="397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per Chromatograph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10280" y="3276720"/>
            <a:ext cx="291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nd Separ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52600" y="3886200"/>
            <a:ext cx="322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lvent Extra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0640" y="4419720"/>
            <a:ext cx="327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vity Separ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# 1…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Extraction of a solid from a mechanical mixtu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This method requires a liquid that dissolves one or more solids present so the desired product is left behind or dissolved and separated by evapor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16000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#2 …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Extraction of a dissolved liquid or solid from a liquid solu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To carry out this technique, a solution with one or more solid and/or liquid substances dissolved in a liquid solution, a solvent must contain two properti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17000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he added solvent is immiscible with the solvent pres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he added solvent dissolves one or more desired substances from the substances and leaves behind the unwan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fter the solvent is added, the mixture is mixed in a separatory funnel and the added solvent is drained from the original solv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22000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520" y="236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ff"/>
                </a:solidFill>
                <a:latin typeface="Arial"/>
              </a:rPr>
              <a:t>RECRYSTYALLIZA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4000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Times New Roman"/>
              </a:rPr>
              <a:t>Recrystallization is a variation of evaporation in which a solid in a solid-in-liquid solution is separated in a pure crystalline sta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Times New Roman"/>
              </a:rPr>
              <a:t>A saturated solution must be prepared in order for recrystallization to occu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Times New Roman"/>
              </a:rPr>
              <a:t>A solid is added to a solvent until no more solid can dissolve and adding just enough hot solvent to dissolve the solid, the mixture is allowed to cool and evaporate, forming crysta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28000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Times New Roman"/>
              </a:rPr>
              <a:t>Once the crystals have formed, they are removed by either hand separation or filtr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7000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Gravity Separa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paration</a:t>
            </a:r>
            <a:r>
              <a:rPr b="0" lang="en-CA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f </a:t>
            </a:r>
            <a:r>
              <a:rPr b="0" lang="en-CA" sz="3200" spc="-1" strike="noStrike">
                <a:solidFill>
                  <a:srgbClr val="ffffff"/>
                </a:solidFill>
                <a:latin typeface="Times New Roman"/>
              </a:rPr>
              <a:t>two components of a homogeneous mixtu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CA" sz="3200" spc="-1" strike="noStrike">
                <a:solidFill>
                  <a:srgbClr val="ffffff"/>
                </a:solidFill>
                <a:latin typeface="Times New Roman"/>
              </a:rPr>
              <a:t>larification and thickening are two different products from the same metho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en-CA" sz="3200" spc="-1" strike="noStrike">
                <a:solidFill>
                  <a:srgbClr val="ffffff"/>
                </a:solidFill>
                <a:latin typeface="Times New Roman"/>
              </a:rPr>
              <a:t>ethod: in a mix of a solid and liquid, the solid will gradually gather at the bottom of the container while the liquid remains on to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Gravity Separa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imes New Roman"/>
              </a:rPr>
              <a:t>Clarification wishes the purified liquid at  the e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imes New Roman"/>
              </a:rPr>
              <a:t>Thickening wishes the purified solid at the end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en-CA" sz="3200" spc="-1" strike="noStrike">
                <a:solidFill>
                  <a:srgbClr val="ffffff"/>
                </a:solidFill>
                <a:latin typeface="Times New Roman"/>
              </a:rPr>
              <a:t>hen feasible, centrifugal force may also be used in place of gravity (faster separation due to higher pressure upon content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ows for the separation of liquids from soli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9480" y="3200400"/>
            <a:ext cx="7620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ually involves a liquid (filtrate) that is passed through a filter; the material that remains on the filter is called the residu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iltra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aper Chromatograph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parates small amounts of Solid-in-Liquid solutions containing two or more dissolved soli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 requires a drop of the mixture placed near the end of a sheet of absorbent paper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at end is dipped in the “developing” mixtu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aper Chromatograph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s the solvent gradually travels up the sheet it will carry along the dissolved soli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edge of the solvent’s travels is known as the “solvent front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pending on how readily the solids are dissolved by the solvent, various streaks of color will appear behind the solvent fro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The END!!!!!!!!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iltra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tration cannot be used to separate dissolved solids from a liquid (filtration only works when the solid particles are big enough to be seen)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istillation</a:t>
            </a:r>
            <a:r>
              <a:rPr b="0" lang="en-CA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90720" y="1752480"/>
            <a:ext cx="72388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a liquid with the lowest boiling temperature in the solution boils first, the vapor produced ascends to the top of the distillation flask, passes a thermometer, and enters the side-arm of the flask which leads to the condenser. As the vapor enters the cold inner surface of the condenser, the gas cools and condenses back into a liquid, which drips out the end of the condenser as the distilla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Hand Separa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Separation of MECHANICAL MIXTU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Can often be separated by HAND or by use of SIEVE or MAGNE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228600" y="1981080"/>
            <a:ext cx="4114800" cy="308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  <a:ea typeface="宋体"/>
              </a:rPr>
              <a:t>Evaporation</a:t>
            </a:r>
            <a:r>
              <a:rPr b="0" lang="en-US" sz="4400" spc="-1" strike="noStrike">
                <a:solidFill>
                  <a:srgbClr val="ffcc66"/>
                </a:solidFill>
                <a:latin typeface="Arial"/>
                <a:ea typeface="宋体"/>
              </a:rPr>
              <a:t>	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Separation of SOLID-IN-LIQUID SOLU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Can often be separated by allowing liquid to EVAPORATE or to be BOILED AWAY, leaving soli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SOLVENT EXTRAC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3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There are two ways in which this technique can be used …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6000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5T20:00:25Z</dcterms:created>
  <dc:creator>Justus</dc:creator>
  <dc:description/>
  <dc:language>en-US</dc:language>
  <cp:lastModifiedBy>Justus</cp:lastModifiedBy>
  <dcterms:modified xsi:type="dcterms:W3CDTF">2009-02-26T06:02:10Z</dcterms:modified>
  <cp:revision>13</cp:revision>
  <dc:subject/>
  <dc:title>The physical separation of substances</dc:title>
</cp:coreProperties>
</file>