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663-3CFA-4181-9D97-051ABCA3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D0F-8954-4369-BE4E-955F0F65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EA7-6121-4679-A0B3-AAE461C6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D35-5285-407D-BA63-79B8895D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62BA-44B6-4D4F-8199-52690B1C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D0F9-8406-49C0-80AF-78E3907C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78F1-E173-47A5-97C2-59B6A53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3A37-26A0-404D-9953-4BDA408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390F-3706-4F5E-A7FB-75FC7654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0A2A-6542-4D87-8558-0B3CFAFE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467E-0FDA-40E6-944C-7DB06B0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44A-548F-4202-AF08-5054C999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456F-7673-4139-93D8-01E70D9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947B-92AF-41DE-A8FC-92D6E8B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662F-92FE-4737-9C93-FD6C6FE3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2719-7459-47C6-9289-76E36B2A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9663-F50E-4F46-81E1-6DFEF277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9E5-280E-43A7-95B3-9AC1EDE9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8BA-D9BD-414E-A3D9-BFDDE91E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079-3FD3-4269-B733-6756E38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4BC-1C8A-4677-BE9F-AB3E779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4B1-743C-4625-A6F2-AE9926FB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F22-DEF7-470F-9DF8-7C352798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5FC-B1D7-4539-BC92-DAC3F9C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31EC-11DC-4E13-BFA7-A19302014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958-DB3C-4C20-9C59-1A26B7642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02:10Z</dcterms:modified>
  <cp:revision>13</cp:revision>
  <dc:subject/>
  <dc:title>The physical separation of substances</dc:title>
</cp:coreProperties>
</file>