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7741-A963-4DF5-9313-22D0A75C7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7359-B8B7-40FC-B679-338020C65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FC18-D636-4F4A-B658-AC5A36BF5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1055-4921-4190-B76C-B085B8E9D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2C63E-3C67-47B0-A15D-EA562E5E0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CD7F4-2191-43EC-A44F-9DF3C0EB8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68C2D-CE88-41B1-8089-1FFB0FA08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7AC60-58F2-46A8-AB04-B29926A34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A2397-E6AB-4D31-B937-1478C73AA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F5D13-3B85-4A21-A324-413148D28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05B59-B544-40C9-8B17-5DA281E2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F9A6-7415-4018-A269-FE0311D23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68B5B-FC40-49EC-885A-9FDB3CE4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72D17-25E1-4AAD-A932-B4C3C2E5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3EC54-E938-4070-8AD8-ABA4999B7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41734-8C34-4419-8C8F-319CA7BF5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D9A8B-2A3A-4DB8-8F14-5463706A0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A352-26ED-4059-B59E-88C2BFDD9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443F-EEF3-4973-92D3-7D58CE101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DDA5-1656-4994-B858-75E464716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3D36-AABE-4F49-B427-0102E5D2E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22C9-0921-4FA7-A900-A8C16676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D5E3-8F8B-4AD0-AE00-96FE4EE2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C9A1-0672-4D43-B63F-5AA78945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619C6-99B3-4797-A3FD-5B046E19AA1D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41EA1-DCA8-4EC4-A921-80E5C5142EED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1496.WAV" TargetMode="External"/><Relationship Id="rId2" Type="http://schemas.microsoft.com/office/2007/relationships/media" Target="file:///tmp/home/.config/libreoffice/4/user/gallery/~PP1496.WAV" TargetMode="External"/><Relationship Id="rId3" Type="http://schemas.openxmlformats.org/officeDocument/2006/relationships/image" Target="../media/image2.png"/><Relationship Id="rId4" Type="http://schemas.openxmlformats.org/officeDocument/2006/relationships/audio" Target="file:///tmp/home/.config/libreoffice/4/user/gallery/~PP1743.WAV" TargetMode="External"/><Relationship Id="rId5" Type="http://schemas.microsoft.com/office/2007/relationships/media" Target="file:///tmp/home/.config/libreoffice/4/user/gallery/~PP1743.WAV" TargetMode="External"/><Relationship Id="rId6" Type="http://schemas.openxmlformats.org/officeDocument/2006/relationships/image" Target="../media/image2.png"/><Relationship Id="rId7" Type="http://schemas.openxmlformats.org/officeDocument/2006/relationships/audio" Target="file:///tmp/home/.config/libreoffice/4/user/gallery/~PP719.WAV" TargetMode="External"/><Relationship Id="rId8" Type="http://schemas.microsoft.com/office/2007/relationships/media" Target="file:///tmp/home/.config/libreoffice/4/user/gallery/~PP719.WAV" TargetMode="External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Physical Separation of Substan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648320" y="266688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til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2666880"/>
            <a:ext cx="3352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lt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38480" y="2666880"/>
            <a:ext cx="457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502920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: Allan Y, Pauline W, Alex W, and Justus 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38480" y="3886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38480" y="4419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38480" y="3276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636880" y="3276720"/>
            <a:ext cx="217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apo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256720" y="3886200"/>
            <a:ext cx="294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rystall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19600" y="4419720"/>
            <a:ext cx="397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per Chromatograp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0280" y="3276720"/>
            <a:ext cx="29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nd Sepa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2600" y="3886200"/>
            <a:ext cx="322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lvent Extr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0640" y="4419720"/>
            <a:ext cx="32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vity Sepa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# 1…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xtraction of a solid from a mechanical mix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is method requires a liquid that dissolves one or more solids present so the desired product is left behind or dissolved and separated by evapo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6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#2 …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xtraction of a dissolved liquid or solid from a liquid s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o carry out this technique, a solution with one or more solid and/or liquid substances dissolved in a liquid solution, a solvent must contain two properti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7000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 added solvent is immiscible with the solvent pres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 added solvent dissolves one or more desired substances from the substances and leaves behind the unwan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fter the solvent is added, the mixture is mixed in a separatory funnel and the added solvent is drained from the original solv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2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RECRYSTYALLIZ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3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Recrystallization is a variation of evaporation in which a solid in a solid-in-liquid solution is separated in a pure crystalline st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A saturated solution must be prepared in order for recrystallization to occu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A solid is added to a solvent until no more solid can dissolve and adding just enough hot solvent to dissolve the solid, the mixture is allowed to cool and evaporate, forming cryst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9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Once the crystals have formed, they are removed by either hand separation or filt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Gravity Separ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paration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 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two components of a homogeneous mix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larification and thickening are two different products from the same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ethod: in a mix of a solid and liquid, the solid will gradually gather at the bottom of the container while the liquid remains on to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Gravity Separ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Clarification wishes the purified liquid at  the 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Thickening wishes the purified solid at the en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hen feasible, centrifugal force may also be used in place of gravity (faster separation due to higher pressure upon conten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s for the separation of liquids from sol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839080" y="2133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839080" y="990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" action="ppaction://media"/>
          </p:cNvPr>
          <p:cNvPicPr/>
          <p:nvPr>
            <a:audi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8839080" y="33526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09480" y="320040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ually involves a liquid (filtrate) that is passed through a filter; the material that remains on the filter is called the resid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ltr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aper Chromatograph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parates small amounts of Solid-in-Liquid solutions containing two or more dissolved sol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requires a drop of the mixture placed near the end of a sheet of absorbent pape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at end is dipped in the “developing” mix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aper Chromatograph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the solvent gradually travels up the sheet it will carry along the dissolved sol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dge of the solvent’s travels is known as the “solvent front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pending on how readily the solids are dissolved by the solvent, various streaks of color will appear behind the solvent fro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END!!!!!!!!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ltr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tration cannot be used to separate dissolved solids from a liquid (filtration only works when the solid particles are big enough to be seen)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839080" y="2133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istillation</a:t>
            </a:r>
            <a:r>
              <a:rPr b="0" lang="en-CA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1752480"/>
            <a:ext cx="7238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a liquid with the lowest boiling temperature in the solution boils first, the vapor produced ascends to the top of the distillation flask, passes a thermometer, and enters the side-arm of the flask which leads to the condenser. As the vapor enters the cold inner surface of the condenser, the gas cools and condenses back into a liquid, which drips out the end of the condenser as the distill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839080" y="1905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and Separ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Separation of MECHANICAL MIX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Can often be separated by HAND or by use of SIEVE or MAG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4114800" cy="3086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8839080" y="1066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8839080" y="2057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  <a:ea typeface="宋体"/>
              </a:rPr>
              <a:t>Evaporation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  <a:ea typeface="宋体"/>
              </a:rPr>
              <a:t>	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Separation of SOLID-IN-LIQUID SOLU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Can often be separated by allowing liquid to EVAPORATE or to be BOILED AWAY, leaving sol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OLVENT EXTRA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5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here are two ways in which this technique can be used …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5000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5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0:00:25Z</dcterms:created>
  <dc:creator>Justus</dc:creator>
  <dc:description/>
  <dc:language>en-US</dc:language>
  <cp:lastModifiedBy>Justus</cp:lastModifiedBy>
  <dcterms:modified xsi:type="dcterms:W3CDTF">2009-02-26T06:48:55Z</dcterms:modified>
  <cp:revision>12</cp:revision>
  <dc:subject/>
  <dc:title>The physical separation of substances</dc:title>
</cp:coreProperties>
</file>