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031-1B27-4C1D-97C8-BDAB2E7F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F4A-82C4-41A7-A2F2-1176062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CB2-9C95-401D-96F0-69D69675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4C7-5ABE-46CE-9890-C69A19F5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25B5-4D9F-455B-AB81-B237A358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AA4D-D66A-4055-B3F8-26E30AA0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B85-6C63-4BE1-B4F3-541A3828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39D8-EFC0-4B66-81F3-BF0C942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DC37-7A63-4D9B-89C0-37DC86D2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3192-5B2A-410A-93BD-6838E6D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03C4-49DA-4F7E-A383-BB32131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584-9734-40C5-9E17-D184DEC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1356-D8D6-48AF-9C52-25A8B94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06B-B1AE-4FDF-A4A2-6A7B1E3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0CE3-8262-49BE-A3CD-76785A9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CF11-C7AC-4CBA-A1BE-0385D26E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7B26-032D-4077-82B1-610C8AEE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B14-135C-4D50-A7BD-2F0EAA89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C5B-5C5F-4B6C-8BAE-22F967F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0AB-B8D4-497C-AF2E-5F758A7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534-085B-4CC4-B14A-54CE8797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639-DB08-49F4-A12D-DA4B018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653-5E16-4C73-A3A1-FE29798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259-D0E8-4956-A233-D515032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B4AA-7FB9-4F41-B2B0-DEBC3337882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F0FB-745A-45E0-8ABE-664ABB660EB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96.WAV" TargetMode="External"/><Relationship Id="rId2" Type="http://schemas.microsoft.com/office/2007/relationships/media" Target="file:///tmp/home/.config/libreoffice/4/user/gallery/~PP1496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~PP1743.WAV" TargetMode="External"/><Relationship Id="rId5" Type="http://schemas.microsoft.com/office/2007/relationships/media" Target="file:///tmp/home/.config/libreoffice/4/user/gallery/~PP1743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~PP719.WAV" TargetMode="External"/><Relationship Id="rId8" Type="http://schemas.microsoft.com/office/2007/relationships/media" Target="file:///tmp/home/.config/libreoffice/4/user/gallery/~PP719.WAV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83908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8390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48:55Z</dcterms:modified>
  <cp:revision>12</cp:revision>
  <dc:subject/>
  <dc:title>The physical separation of substances</dc:title>
</cp:coreProperties>
</file>