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9C0F-9F94-4F94-8B42-CDE6F9B6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9C7-A70C-4F33-96B7-5EE21EA4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808-855C-44C4-A727-F39B838C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2E7A-536C-48D0-80C1-1D219D76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C8C0-9202-4E20-84E2-5F3ED4CA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97FD-EB02-4D6E-B5F8-6CED02AF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9F78-5871-4E6D-BBE8-4A5A9082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6DE7-89B0-4264-832A-DEA3F9EF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0E14-C952-44B8-8092-818F2F4D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15B9-12EE-43EF-B333-351530B1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5603-4999-4C45-A048-81EF9F18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F2C3-8A36-4811-88E9-5C24CDFF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E404-4BAC-4F93-8397-862FD774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11DF-8E11-4E13-9B87-E8817F3D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F912-15E0-40AD-9D5D-FF964374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ABDB-8277-481F-850A-370B68A2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288C-E9C4-4E38-AF9C-E5C22BB6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3F3-3C25-4569-9AE3-DA5B1CE5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C78F-68CD-4FB4-9040-75EE57CE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13A1-875B-4EA0-B5C7-2698AA14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DCC9-7230-414D-8100-57A3783E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FB01-3B50-4C20-A12B-6069A123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FE64-27C2-4E9E-BB84-F8F019C9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CA93-88E3-4203-B276-E7849664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DF3E-EA97-4E16-AD89-68FF39F89658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FF77-95F2-4B82-A514-7BB6A919D1FA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496.WAV" TargetMode="External"/><Relationship Id="rId2" Type="http://schemas.microsoft.com/office/2007/relationships/media" Target="file:///tmp/home/.config/libreoffice/4/user/gallery/~PP1496.WAV" TargetMode="External"/><Relationship Id="rId3" Type="http://schemas.openxmlformats.org/officeDocument/2006/relationships/image" Target="../media/image2.png"/><Relationship Id="rId4" Type="http://schemas.openxmlformats.org/officeDocument/2006/relationships/audio" Target="file:///tmp/home/.config/libreoffice/4/user/gallery/~PP1743.WAV" TargetMode="External"/><Relationship Id="rId5" Type="http://schemas.microsoft.com/office/2007/relationships/media" Target="file:///tmp/home/.config/libreoffice/4/user/gallery/~PP1743.WAV" TargetMode="External"/><Relationship Id="rId6" Type="http://schemas.openxmlformats.org/officeDocument/2006/relationships/image" Target="../media/image2.png"/><Relationship Id="rId7" Type="http://schemas.openxmlformats.org/officeDocument/2006/relationships/audio" Target="file:///tmp/home/.config/libreoffice/4/user/gallery/~PP719.WAV" TargetMode="External"/><Relationship Id="rId8" Type="http://schemas.microsoft.com/office/2007/relationships/media" Target="file:///tmp/home/.config/libreoffice/4/user/gallery/~PP719.WAV" TargetMode="Externa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Physical Separation of Substan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48320" y="26668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il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666880"/>
            <a:ext cx="335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26668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50292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: Allan Y, Pauline W, Alex W, and Justus 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3886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419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6880" y="327672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6720" y="388620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rystal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19600" y="4419720"/>
            <a:ext cx="39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er Chromatograp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0280" y="327672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2600" y="3886200"/>
            <a:ext cx="32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vent Ex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0640" y="4419720"/>
            <a:ext cx="32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vity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# 1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traction of a solid from a mechanical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is method requires a liquid that dissolves one or more solids present so the desired product is left behind or dissolved and separated by 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6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#2 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traction of a dissolved liquid or solid from a liquid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carry out this technique, a solution with one or more solid and/or liquid substances dissolved in a liquid solution, a solvent must contain two proper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7000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added solvent is immiscible with the solvent pres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added solvent dissolves one or more desired substances from the substances and leaves behind the unwa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fter the solvent is added, the mixture is mixed in a separatory funnel and the added solvent is drained from the original sol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2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RECRYSTYALLIZ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Recrystallization is a variation of evaporation in which a solid in a solid-in-liquid solution is separated in a pure crystalline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 saturated solution must be prepared in order for recrystallization to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 solid is added to a solvent until no more solid can dissolve and adding just enough hot solvent to dissolve the solid, the mixture is allowed to cool and evaporate, forming crys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9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Once the crystals have formed, they are removed by either hand separation or 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vity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ion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wo components of a homogeneous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larification and thickening are two different products from the same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ethod: in a mix of a solid and liquid, the solid will gradually gather at the bottom of the container while the liquid remains on t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vity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larification wishes the purified liquid at 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hickening wishes the purified solid at the e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hen feasible, centrifugal force may also be used in place of gravity (faster separation due to higher pressure upon con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the separation of liquids from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83908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839080" y="3352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480" y="32004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involves a liquid (filtrate) that is passed through a filter; the material that remains on the filter is called the resid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per Chromat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s small amounts of Solid-in-Liquid solutions containing two or more dissolved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requires a drop of the mixture placed near the end of a sheet of absorbent pap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t end is dipped in the “developing”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per Chromat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 solvent gradually travels up the sheet it will carry along the dissolved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dge of the solvent’s travels is known as the “solvent fro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ending on how readily the solids are dissolved by the solvent, various streaks of color will appear behind the solvent fro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END!!!!!!!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ration cannot be used to separate dissolved solids from a liquid (filtration only works when the solid particles are big enough to be seen)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83908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stillation</a:t>
            </a:r>
            <a:r>
              <a:rPr b="0" lang="en-C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752480"/>
            <a:ext cx="7238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liquid with the lowest boiling temperature in the solution boils first, the vapor produced ascends to the top of the distillation flask, passes a thermometer, and enters the side-arm of the flask which leads to the condenser. As the vapor enters the cold inner surface of the condenser, the gas cools and condenses back into a liquid, which drips out the end of the condenser as the distil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83908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and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Separation of MECHANICAL MIX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an often be separated by HAND or by use of SIEVE or MAG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839080" y="1066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83908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宋体"/>
              </a:rPr>
              <a:t>Evaporation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宋体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eparation of SOLID-IN-LIQUID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an often be separated by allowing liquid to EVAPORATE or to be BOILED AWAY, leaving sol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OLVENT EXTRA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re are two ways in which this technique can be used …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5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0:00:25Z</dcterms:created>
  <dc:creator>Justus</dc:creator>
  <dc:description/>
  <dc:language>en-US</dc:language>
  <cp:lastModifiedBy>Justus</cp:lastModifiedBy>
  <dcterms:modified xsi:type="dcterms:W3CDTF">2009-02-26T06:48:55Z</dcterms:modified>
  <cp:revision>12</cp:revision>
  <dc:subject/>
  <dc:title>The physical separation of substances</dc:title>
</cp:coreProperties>
</file>