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D652-5F26-4B5E-A220-AA6265C1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A29-C9A8-4370-86CB-12E8903A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59C-A312-48B7-89C2-743102F4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D84-726F-46DE-BA0D-59B92CE3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2BDD-4E96-4700-9E38-EC7C4BBD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37E2-7628-4D6C-B97C-1B224438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6788-B6DF-4DE1-BDF7-7DDA9102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584A-8278-4D30-8B7F-18B5311A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7457-07ED-4D41-9494-2B86131F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D6AE-B0C2-4666-ADF7-B63ACC6B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0258-4F71-402D-9AC4-693E5F29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64C5-2E76-4C1D-BD7C-B6EDB9C7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903C-24F4-462E-AC34-C38832B4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75C0-E583-4F31-BDE8-F839C614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DE58-507A-4946-A6F3-C27CE908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4438-46CF-4000-BE88-5C9C1E03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04DE-8134-4912-A76D-9D2859C3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45E-D955-4ADE-8849-EE7F261A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4D2F-1720-481F-84CD-DDF85CD4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3F7-8711-4815-A876-E09C78DF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FBF-5F8E-441D-A19C-260F38F5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84E-78E9-491F-9F01-3C4D8358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4BE-E2C1-41C4-9B4A-AA196A14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BCEC-11A3-4307-B306-1C162BFA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5697-C5E8-401C-91FF-FFC98551A54C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1FF2-E740-4221-BA2F-8EA9A60A314C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496.WAV" TargetMode="External"/><Relationship Id="rId2" Type="http://schemas.microsoft.com/office/2007/relationships/media" Target="file:///tmp/home/.config/libreoffice/4/user/gallery/~PP1496.WAV" TargetMode="External"/><Relationship Id="rId3" Type="http://schemas.openxmlformats.org/officeDocument/2006/relationships/image" Target="../media/image2.png"/><Relationship Id="rId4" Type="http://schemas.openxmlformats.org/officeDocument/2006/relationships/audio" Target="file:///tmp/home/.config/libreoffice/4/user/gallery/~PP1743.WAV" TargetMode="External"/><Relationship Id="rId5" Type="http://schemas.microsoft.com/office/2007/relationships/media" Target="file:///tmp/home/.config/libreoffice/4/user/gallery/~PP1743.WAV" TargetMode="External"/><Relationship Id="rId6" Type="http://schemas.openxmlformats.org/officeDocument/2006/relationships/image" Target="../media/image2.png"/><Relationship Id="rId7" Type="http://schemas.openxmlformats.org/officeDocument/2006/relationships/audio" Target="file:///tmp/home/.config/libreoffice/4/user/gallery/~PP719.WAV" TargetMode="External"/><Relationship Id="rId8" Type="http://schemas.microsoft.com/office/2007/relationships/media" Target="file:///tmp/home/.config/libreoffice/4/user/gallery/~PP719.WAV" TargetMode="Externa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Physical Separation of Substa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48320" y="26668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il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666880"/>
            <a:ext cx="335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26668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50292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: Allan Y, Pauline W, Alex W, and Justus 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886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419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6880" y="32767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6720" y="38862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rystal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19600" y="4419720"/>
            <a:ext cx="39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er Chromatograp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0280" y="327672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2600" y="3886200"/>
            <a:ext cx="32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vent Ex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0640" y="441972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vity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# 1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traction of a solid from a mechanical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is method requires a liquid that dissolves one or more solids present so the desired product is left behind or dissolved and separated by 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#2 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traction of a dissolved liquid or solid from a liquid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carry out this technique, a solution with one or more solid and/or liquid substances dissolved in a liquid solution, a solvent must contain two proper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added solvent is immiscible with the solvent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added solvent dissolves one or more desired substances from the substances and leaves behind the unwa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fter the solvent is added, the mixture is mixed in a separatory funnel and the added solvent is drained from the original sol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2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RECRYSTYALLIZ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Recrystallization is a variation of evaporation in which a solid in a solid-in-liquid solution is separated in a pure crystalline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 saturated solution must be prepared in order for recrystallization to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 solid is added to a solvent until no more solid can dissolve and adding just enough hot solvent to dissolve the solid, the mixture is allowed to cool and evaporate, forming crys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9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Once the crystals have formed, they are removed by either hand separation or 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vity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ion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wo components of a homogeneous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larification and thickening are two different products from the same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thod: in a mix of a solid and liquid, the solid will gradually gather at the bottom of the container while the liquid remains on 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vity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larification wishes the purified liquid at 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ickening wishes the purified solid at the e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hen feasible, centrifugal force may also be used in place of gravity (faster separation due to higher pressure upon con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the separation of liquids from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83908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83908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480" y="32004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involves a liquid (filtrate) that is passed through a filter; the material that remains on the filter is called the resid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per Chromat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s small amounts of Solid-in-Liquid solutions containing two or more dissolved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requires a drop of the mixture placed near the end of a sheet of absorbent pap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end is dipped in the “developing”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per Chromat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 solvent gradually travels up the sheet it will carry along the dissolved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dge of the solvent’s travels is known as the “solvent fro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ing on how readily the solids are dissolved by the solvent, various streaks of color will appear behind the solvent fr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END!!!!!!!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ration cannot be used to separate dissolved solids from a liquid (filtration only works when the solid particles are big enough to be seen)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83908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tillation</a:t>
            </a:r>
            <a:r>
              <a:rPr b="0" lang="en-C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752480"/>
            <a:ext cx="7238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liquid with the lowest boiling temperature in the solution boils first, the vapor produced ascends to the top of the distillation flask, passes a thermometer, and enters the side-arm of the flask which leads to the condenser. As the vapor enters the cold inner surface of the condenser, the gas cools and condenses back into a liquid, which drips out the end of the condenser as the distil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83908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and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Separation of MECHANICAL MIX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an often be separated by HAND or by use of SIEVE or MAG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83908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83908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Evaporation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eparation of SOLID-IN-LIQUID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an often be separated by allowing liquid to EVAPORATE or to be BOILED AWAY, leaving sol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OLVENT EXTRA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re are two ways in which this technique can be used …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0:00:25Z</dcterms:created>
  <dc:creator>Justus</dc:creator>
  <dc:description/>
  <dc:language>en-US</dc:language>
  <cp:lastModifiedBy>Justus</cp:lastModifiedBy>
  <dcterms:modified xsi:type="dcterms:W3CDTF">2009-02-26T06:48:55Z</dcterms:modified>
  <cp:revision>12</cp:revision>
  <dc:subject/>
  <dc:title>The physical separation of substances</dc:title>
</cp:coreProperties>
</file>