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C6E-2BC8-4B56-AA05-D6A17D2D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AB9-C409-44D8-B4F9-2F389637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46D-3681-495E-8D8C-86755923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D81-9E1C-4A42-BF3B-658B0FE8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A248-7FD0-4277-AE7A-C0BB0B91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B39F-5950-4188-8FAB-D9655FA6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7817-3057-4217-9940-3C2DB482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AC04-BDFB-444F-8973-D77AC7D1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CA83-BADD-4024-B1AD-4A9BCE48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45A4-666F-4F15-A533-9AB6904F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910E-ED25-4D7F-AA86-00B95220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4E8-C368-4F91-B03A-2612A223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D9FC-69B0-49C7-A650-2DEF191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B5E4-483A-4CA9-8022-563DB3AB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40E3-106B-44C2-88F1-7A78B9B0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4285-DD19-44E7-AEA2-79F84DFD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2BF9-D0B5-4BA8-8139-0DA0388B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BEE-E907-41DE-821E-4E30EC5E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4F7-4503-40E1-AA3C-D648EAC7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92F-8751-49DA-BC45-39D2F34B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636-5CF5-4348-84D8-58D9EA7F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53E-7857-464E-9FEA-83945D5F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459-7384-4EB7-B69B-BEB3096E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801-B6D3-4F04-9660-A134ECC6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B8EC-8E56-4DB8-81EE-3F82F3AA4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5687-0362-4D02-B233-3B8001F5B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hysical Separation of Subst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6668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029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Allan Y, Pauline W, Alex W, and Justus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6880" y="32767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6720" y="38862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rystal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9600" y="44197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 Chromat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280" y="327672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" y="388620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vent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0640" y="441972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y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 1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solid from a mechanical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s method requires a liquid that dissolves one or more solids present so the desired product is left behind or dissolved and separated by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2 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dissolved liquid or solid from a liquid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carry out this technique, a solution with one or more solid and/or liquid substances dissolved in a liquid solution, a solvent must contain two prope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is immiscible with the solven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dissolves one or more desired substances from the substances and leaves behind the unw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fter the solvent is added, the mixture is mixed in a separatory funnel and the added solvent is drained from the original sol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RECRYSTYALL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ecrystallization is a variation of evaporation in which a solid in a solid-in-liquid solution is separated in a pure crystallin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aturated solution must be prepared in order for recrystallization to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olid is added to a solvent until no more solid can dissolve and adding just enough hot solvent to dissolve the solid, the mixture is allowed to cool and evaporate, forming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nce the crystals have formed, they are removed by either hand separation or 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wo components of a homogeneous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arification and thickening are two different products from the sam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thod: in a mix of a solid and liquid, the solid will gradually gather at the bottom of the container while the liquid remains on 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arification wishes the purified liquid at 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ickening wishes the purified solid at the e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n feasible, centrifugal force may also be used in place of gravity (faster separation due to higher pressure upon con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he separation of liquids from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200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nvolves a liquid (filtrate) that is passed through a filter; the material that remains on the filter is called the resid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s small amounts of Solid-in-Liquid solutions containing two or mor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quires a drop of the mixture placed near the end of a sheet of absorbent pap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end is dipped in the “developing”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solvent gradually travels up the sheet it will carry along th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dge of the solvent’s travels is known as the “solvent fro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ing on how readily the solids are dissolved by the solvent, various streaks of color will appear behind the solvent 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ND!!!!!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 cannot be used to separate dissolved solids from a liquid (filtration only works when the solid particles are big enough to be seen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tillation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7524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liquid with the lowest boiling temperature in the solution boils first, the vapor produced ascends to the top of the distillation flask, passes a thermometer, and enters the side-arm of the flask which leads to the condenser. As the vapor enters the cold inner surface of the condenser, the gas cools and condenses back into a liquid, which drips out the end of the condenser as the distil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and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MECHANICAL MIX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HAND or by use of SIEVE or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Evapora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SOLID-IN-LIQUI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allowing liquid to EVAPORATE or to be BOILED AWAY, leaving so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LVENT EXTR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re are two ways in which this technique can be used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0:00:25Z</dcterms:created>
  <dc:creator>Justus</dc:creator>
  <dc:description/>
  <dc:language>en-US</dc:language>
  <cp:lastModifiedBy>Justus</cp:lastModifiedBy>
  <dcterms:modified xsi:type="dcterms:W3CDTF">2009-02-26T06:02:10Z</dcterms:modified>
  <cp:revision>13</cp:revision>
  <dc:subject/>
  <dc:title>The physical separation of substances</dc:title>
</cp:coreProperties>
</file>