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C4B-9A6D-4D5D-BEE9-F3632DD2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A9A-D747-4E63-82F0-2DEA1956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B8C-B566-47DA-8122-2F88A198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815-1FB8-47DE-8CC0-403FE779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D38C-0402-4786-85BE-5BAAE2EC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472E-134E-4CD1-A981-C16D6B8B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9414-CEFE-414E-B464-0CC0AD31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92CE-B5AE-453B-B273-3B523E7D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8BBB-43BB-4F9C-8C87-1C0E6509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8AFB-F25E-41A2-B46E-29BD9AA1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A758-483E-4C07-BB5E-2AA810C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C9B-0909-4ABE-943E-B00D652B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A3E5-8595-4F37-BF94-2B4AEB4D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197E-6AE9-496A-8096-0115BDF5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B2A3-C5C1-48A3-8814-EFF1A1F8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2A29-EEC9-4924-B66E-9DA1FBCD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8DDD-E55B-4376-A94D-B2C0AE09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60E-40E7-4E2C-9BE0-CC279F0A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C42-67D8-4A24-8E5F-42C963B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8F9-02B1-459D-8559-C20676A8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780-432F-457A-A5B0-9EE1C5AD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696-39E2-47E3-8B34-92053C5E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B40-94DA-40FB-B1DF-A6DA728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552-C7A6-4020-A9D4-D0E90A8E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EE62-C6BF-4DBE-912C-C3C002049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545-A9D7-4A96-A302-640DEE391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hysical Separation of Subst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6668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Allan Y, Pauline W, Alex W, and Justus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6880" y="32767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6720" y="38862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ystal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9600" y="44197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 Chromat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280" y="32767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" y="388620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vent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0640" y="44197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y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 1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solid from a mechanical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s method requires a liquid that dissolves one or more solids present so the desired product is left behind or dissolved and separated by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2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dissolved liquid or solid from a liquid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carry out this technique, a solution with one or more solid and/or liquid substances dissolved in a liquid solution, a solvent must contain two 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is immiscible with the solv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dissolves one or more desired substances from the substances and leaves behind the unw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fter the solvent is added, the mixture is mixed in a separatory funnel and the added solvent is drained from the original sol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RECRYSTYAL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crystallization is a variation of evaporation in which a solid in a solid-in-liquid solution is separated in a pure crystallin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aturated solution must be prepared in order for recrystallization to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olid is added to a solvent until no more solid can dissolve and adding just enough hot solvent to dissolve the solid, the mixture is allowed to cool and evaporate, forming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nce the crystals have formed, they are removed by either hand separation or 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wo components of a homogeneous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arification and thickening are two different products from the sam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od: in a mix of a solid and liquid, the solid will gradually gather at the bottom of the container while the liquid remains on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arification wishes the purified liquid at 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ickening wishes the purified solid at the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n feasible, centrifugal force may also be used in place of gravity (faster separation due to higher pressure upon con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he separation of liquids from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200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volves a liquid (filtrate) that is passed through a filter; the material that remains on the filter is called the resid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s small amounts of Solid-in-Liquid solutions containing two or mor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quires a drop of the mixture placed near the end of a sheet of absorbent pa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end is dipped in the “developing”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solvent gradually travels up the sheet it will carry along th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dge of the solvent’s travels is known as the “solvent fr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ing on how readily the solids are dissolved by the solvent, various streaks of color will appear behind the solvent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D!!!!!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 cannot be used to separate dissolved solids from a liquid (filtration only works when the solid particles are big enough to be seen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tillation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7524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liquid with the lowest boiling temperature in the solution boils first, the vapor produced ascends to the top of the distillation flask, passes a thermometer, and enters the side-arm of the flask which leads to the condenser. As the vapor enters the cold inner surface of the condenser, the gas cools and condenses back into a liquid, which drips out the end of the condenser as the distil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nd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MECHANICAL MIX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HAND or by use of SIEVE or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Evapora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SOLID-IN-LIQUI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allowing liquid to EVAPORATE or to be BOILED AWAY, leaving so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NT EX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re are two ways in which this technique can be used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0:00:25Z</dcterms:created>
  <dc:creator>Justus</dc:creator>
  <dc:description/>
  <dc:language>en-US</dc:language>
  <cp:lastModifiedBy>Justus</cp:lastModifiedBy>
  <dcterms:modified xsi:type="dcterms:W3CDTF">2009-02-26T06:02:10Z</dcterms:modified>
  <cp:revision>13</cp:revision>
  <dc:subject/>
  <dc:title>The physical separation of substances</dc:title>
</cp:coreProperties>
</file>