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FAA-805C-43BD-AD62-3FE6C896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212-DBCF-40A5-8FD3-EF1DD5C8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646-F415-43BC-81DC-2CA8E3DC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465-82CD-4BF6-9DA3-C81C82CD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93BC-3BD3-4F33-800C-F3E20D4C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7B9A-078D-4BD8-8502-FE6F5ED4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3309-A06A-4127-8024-47A3780A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92A2-EECB-4AD5-AF25-33D33017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A75B-4DD6-4862-B9F8-C9D41AFB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149-DDBB-4EB8-AE84-F52D8DD8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C046-1238-49DC-8C34-B667ED1A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815-D050-4292-9057-63D323B9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5144-B42C-4B18-8D8D-0DB3C68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2D59-E65D-4A77-B283-D1B7951D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6A37-C3FC-4A98-93F3-ACA03FF7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08F6-A09E-4D3C-A616-B65FCB66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6FA-45E4-4FBE-AA4F-431C6AA0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25D-5CD1-49FC-9345-84DF3DE8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6E7-244C-4118-B434-7B545780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454-BA02-4409-A6D4-FE016D9A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B78-B4D3-4DC6-B234-37E0785B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226-AF9A-4421-AD2C-505DB116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9C2-3D7B-42C1-BD46-EDB5D117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00C-04FD-47F4-82C7-E32DBA0C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1B2A-3413-428C-9C41-210F926043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7085-98EB-41E3-BB1A-16E89EFE7E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vvc.edu/offices/lc/multimedia/chemistry.gif&amp;imgrefurl=http://current.com/items/89625777/impressive_chemistry_videos.htm&amp;usg=__WgswJ1v4syVOPTgwQ2XOWXc-JUY=&amp;h=405&amp;w=474&amp;sz=10&amp;hl=en&amp;start=2&amp;um=1&amp;tbnid=kkssCqEsQI1e4M:&amp;tbnh=110&amp;tbnw=129&amp;prev=/images%3Fq%3Dchemistry%26um%3D1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a/imgres?imgurl=http://members.cox.net/grouchyguy/images/fireworks.jpg&amp;imgrefurl=http://dennistennant.wordpress.com/2008/07/03/lets-make-fireworks-photos/&amp;usg=__hxGvTvgswv1M-2B8x87AAGYcq3Y=&amp;h=645&amp;w=650&amp;sz=127&amp;hl=en&amp;start=33&amp;um=1&amp;tbnid=Y1MnMHdKHNIu-M:&amp;tbnh=136&amp;tbnw=137&amp;prev=/images%3Fq%3Dfireworks%26start%3D18%26ndsp%3D18%26um%3D1%26hl%3D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2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c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h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me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ry 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v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v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g M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l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a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 C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c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nt</a:t>
            </a:r>
            <a:r>
              <a:rPr b="0" lang="en-US" sz="9000" spc="-1" strike="noStrike">
                <a:solidFill>
                  <a:srgbClr val="010199"/>
                </a:solidFill>
                <a:latin typeface="Arial"/>
              </a:rPr>
              <a:t>r</a:t>
            </a:r>
            <a:r>
              <a:rPr b="0" lang="en-US" sz="9000" spc="-1" strike="noStrike">
                <a:solidFill>
                  <a:srgbClr val="b2b2b2"/>
                </a:solidFill>
                <a:latin typeface="Arial"/>
              </a:rPr>
              <a:t>ati</a:t>
            </a:r>
            <a:r>
              <a:rPr b="0" lang="en-US" sz="90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9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9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68000" y="5516280"/>
            <a:ext cx="6875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y, Abby Leung &amp; Peggy F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osty"/>
              </a:rPr>
              <a:t>Block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5256360" cy="1139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olar ratio to convert moles of given quantity to wanted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Note: Coefficients in balanced equation represent molar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 ratio used in fractio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3:4 =3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00"/>
                </a:solidFill>
                <a:latin typeface="Californian FB"/>
              </a:rPr>
              <a:t>Which mol quantity in molar ratio is the denominator?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omin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the given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umera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 ratio of wanted qua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6000" y="3787920"/>
            <a:ext cx="2865240" cy="286524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. Molarity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tep 4’s answer &amp; molar concentration to answer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ep turns mol of a quantity to the answer of the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arity given in form: ? M (mol/L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ing on question, you may need to rearrange molarity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c=m/v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als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v=m/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equals      </a:t>
            </a:r>
            <a:r>
              <a:rPr b="1" lang="en-US" sz="3200" spc="-1" strike="noStrike">
                <a:solidFill>
                  <a:srgbClr val="e7f20a"/>
                </a:solidFill>
                <a:latin typeface="Arial"/>
              </a:rPr>
              <a:t>m=c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t’s Try It Together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561080" cy="2663640"/>
          </a:xfrm>
          <a:prstGeom prst="rect">
            <a:avLst/>
          </a:prstGeom>
          <a:solidFill>
            <a:srgbClr val="3399ff"/>
          </a:solidFill>
          <a:ln w="76320">
            <a:solidFill>
              <a:srgbClr val="990099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wants to put 50.0L of hydrogen gas at STP into a plastic bag by reacting excess aluminum metal with 3.00M sodium hydroxide solution according to the reaction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volume of NaOH solution is requi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3280" y="4292640"/>
            <a:ext cx="4038840" cy="217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204336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86688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26920" y="260280"/>
            <a:ext cx="8668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tep 1: Write out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gas = H2 (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hydrogen is a diatomic molec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(s) + NaOH(aq) + H2O(l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AlO2(aq) + H2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65720"/>
            <a:ext cx="2567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tep 2: Balanc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Al(s) + 2NaOH(aq) + 2H2O(l) </a:t>
            </a:r>
            <a:r>
              <a:rPr b="0" lang="en-US" sz="27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2NaAlO2(aq) + 3H2(g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4221000"/>
            <a:ext cx="2232000" cy="2113200"/>
          </a:xfrm>
          <a:prstGeom prst="rect">
            <a:avLst/>
          </a:prstGeom>
          <a:ln w="76320">
            <a:solidFill>
              <a:srgbClr val="008000"/>
            </a:solidFill>
            <a:prstDash val="lgDashDot"/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2031840" cy="203184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tep 3: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quantity: 50.0L Hydrogen gas at S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of H2 = 50.0L(1mol/22.4L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.32 mol H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7414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192720" cy="11397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4: Molar Rat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given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32 mol of H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Moles of wanted quant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? Mol of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Al(s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OH(aq) + 2H2O(l) -&gt; 2NaAlO2(aq) +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2(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: 3 ratio (mol of NaOH: mol of H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2:3 = 2/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Mol(NaOH)= 2.32 mol H2 (2 mol NaOH/3 mol H2)= 1.49 mol NaO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What </a:t>
            </a: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volume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of NaOH solution is required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49 mol NaO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tep 4 answ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00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hydroxide (NaOH) solution (giv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Volume(v) = Mole(n)/ Concentration(c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arranged Molarity equ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olume of NaOH = (1.49 mol) / (3.00mol/L) = 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0.496L 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04160" y="5013360"/>
            <a:ext cx="21398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2b2b2"/>
                </a:solidFill>
                <a:latin typeface="Broadway"/>
              </a:rPr>
              <a:t>You Are Done!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0.496L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of Sodium Hydroxide (NaOH) solution w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Engravers MT"/>
              </a:rPr>
              <a:t>ALL IT TAKES IS THESE 5 SPECIAL STEPS!</a:t>
            </a:r>
            <a:r>
              <a:rPr b="1" i="1" lang="en-US" sz="3700" spc="-1" strike="noStrike">
                <a:solidFill>
                  <a:srgbClr val="ffffff"/>
                </a:solidFill>
                <a:latin typeface="Engravers MT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2520720" cy="201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437000"/>
            <a:ext cx="22320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Stoichiometr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Elephant"/>
              </a:rPr>
              <a:t>Stoichiometry is the relationships between the amount of reactants used in a chemical reaction and the amount of products produced by the reaction.</a:t>
            </a: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407664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78920" cy="6958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557000"/>
            <a:ext cx="7715520" cy="43210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Still having troubles remembering how to do these question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NO WORRI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Stencil"/>
              </a:rPr>
              <a:t>We have a song to help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f I were a Mole Lyr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661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Tune: ‘If I were a Boy’ by Beyonce Know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even just for a 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’d get up every morning just 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 stoichiometry problem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love thos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cept I always ha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cret to solving all these tricky 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9280" y="1196640"/>
            <a:ext cx="4284720" cy="5661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I were a m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th five really ea-s-y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member tha-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ola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s c equals n over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t’s also called mo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nd you can use STP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757080" y="-4009320"/>
            <a:ext cx="277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first big step is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rite out a proper eq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all the right element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ep two is to-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alance the equati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use all elements need to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ame number of atoms on both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316400" cy="640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I were a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 could always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ow you could solve this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th 5 very eas-s-y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ow let’s move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 step three I w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STP to change litres to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cause you need moles for step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Use coefficients formula to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e are almost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call mol of firs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nd molar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o find mol of what you w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xt use molarity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nd the volume in lit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969000" cy="479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fused when stoichiometry involves molar concentration?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Stencil"/>
              </a:rPr>
              <a:t>MOLA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Stencil"/>
              </a:rPr>
              <a:t>	</a:t>
            </a:r>
            <a:r>
              <a:rPr b="0" lang="en-US" sz="4000" spc="-1" strike="noStrike">
                <a:solidFill>
                  <a:srgbClr val="9900cc"/>
                </a:solidFill>
                <a:latin typeface="Broadway"/>
              </a:rPr>
              <a:t>MOLES?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ritannic Bold"/>
              </a:rPr>
              <a:t>	</a:t>
            </a:r>
            <a:r>
              <a:rPr b="1" lang="en-US" sz="3700" spc="-1" strike="noStrike">
                <a:solidFill>
                  <a:srgbClr val="ff0066"/>
                </a:solidFill>
                <a:latin typeface="Britannic Bold"/>
              </a:rPr>
              <a:t>STOICHIOMETRY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st Remember Thi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W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k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F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h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gnificent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ffins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43640" y="4465800"/>
            <a:ext cx="2508120" cy="217296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 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REALLY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ASY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1. 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 an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2. 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nce th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3. 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 the mole of the given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4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5.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arity- Use equation to Solve Your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00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00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S YOU SHOULD KNO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P = 22.4 L/mol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 Concentration = Molarit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= n/v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or-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larity =mole/volume (in L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KEEP TRACK OF SIG FIGS DURING YOUR CALCULATIONS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277920"/>
            <a:ext cx="6553080" cy="1139760"/>
          </a:xfrm>
          <a:prstGeom prst="rect">
            <a:avLst/>
          </a:prstGeom>
          <a:solidFill>
            <a:srgbClr val="993366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askerville Old Face"/>
              </a:rPr>
              <a:t>1. Write th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t reactants on the left side of equation &amp; products on the right s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2. Balance Eq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Georgia"/>
              </a:rPr>
              <a:t>Make sure that each element has the same number of atoms on both side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2997360"/>
            <a:ext cx="2389320" cy="3528720"/>
          </a:xfrm>
          <a:prstGeom prst="rect">
            <a:avLst/>
          </a:prstGeom>
          <a:ln w="19080">
            <a:solidFill>
              <a:srgbClr val="ffcc66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gravers MT"/>
              </a:rPr>
              <a:t>3. Find mole of given quant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given quantity to # of mol of 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L: use STP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P= 1 mol/ 22.4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If given quantity in particles: Use Avogadro’s Number to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 × 10^2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6:47:09Z</dcterms:created>
  <dc:creator>Betty Ho</dc:creator>
  <dc:description/>
  <dc:language>en-US</dc:language>
  <cp:lastModifiedBy>Betty Ho</cp:lastModifiedBy>
  <dcterms:modified xsi:type="dcterms:W3CDTF">2009-03-01T23:23:36Z</dcterms:modified>
  <cp:revision>12</cp:revision>
  <dc:subject/>
  <dc:title>Stoichiometry Involving Molar Concentration</dc:title>
</cp:coreProperties>
</file>