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C6D1-3FDD-402F-8B3F-C708FD49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69A-9304-426E-AF9A-9285E51A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A6C0-DB07-43E7-BB4C-9FAD637F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D3A7-9B9C-4D1D-BAA7-8DC188F2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8269-7A88-454C-9183-E213D27D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EDA8-56E0-4B79-802E-6BD097C5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8F1F-0EEA-49FB-8B2A-C5BDDCD5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3FF4-3B8C-46B1-9579-E8B5DA84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2471-F09A-4217-BB66-C800E796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01E9-30BF-440D-9964-F675EA3F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E13C-3DFF-4BAE-A565-B500A06B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8CA8-379E-4D3C-91E6-CF088C19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8C44-8E05-4E27-8F93-3842DA71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E21B-A230-4DF0-9CB8-85929D9C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34B6-D921-4FE0-838A-85964127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9312-099A-44B3-81B2-B1969210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0B36-6397-443D-9029-ECA8C58B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F8DD-EFEB-4495-ABA6-26F95C1C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7709-A149-4218-97CC-4DDDC0B8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CE2B-1A98-4942-8EE3-C8B377A1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B190-B967-4A24-A76E-1B5699FA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36E9-0CC5-43AC-948B-8E5473EF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2EFB-0BE4-49AC-AE19-F7E96046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32D-A0B7-4A85-A15A-31303F94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FEC7-B645-45D6-98E2-2F1DFB162B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20F1-570F-40B1-BEC1-B8AB1FFEF4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vvc.edu/offices/lc/multimedia/chemistry.gif&amp;imgrefurl=http://current.com/items/89625777/impressive_chemistry_videos.htm&amp;usg=__WgswJ1v4syVOPTgwQ2XOWXc-JUY=&amp;h=405&amp;w=474&amp;sz=10&amp;hl=en&amp;start=2&amp;um=1&amp;tbnid=kkssCqEsQI1e4M:&amp;tbnh=110&amp;tbnw=129&amp;prev=/images%3Fq%3Dchemistry%26um%3D1%26hl%3De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images.google.ca/imgres?imgurl=http://members.cox.net/grouchyguy/images/fireworks.jpg&amp;imgrefurl=http://dennistennant.wordpress.com/2008/07/03/lets-make-fireworks-photos/&amp;usg=__hxGvTvgswv1M-2B8x87AAGYcq3Y=&amp;h=645&amp;w=650&amp;sz=127&amp;hl=en&amp;start=33&amp;um=1&amp;tbnid=Y1MnMHdKHNIu-M:&amp;tbnh=136&amp;tbnw=137&amp;prev=/images%3Fq%3Dfireworks%26start%3D18%26ndsp%3D18%26um%3D1%26hl%3Den%26sa%3DN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920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t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ic</a:t>
            </a:r>
            <a:r>
              <a:rPr b="0" lang="en-US" sz="9000" spc="-1" strike="noStrike">
                <a:solidFill>
                  <a:srgbClr val="010199"/>
                </a:solidFill>
                <a:latin typeface="Arial"/>
              </a:rPr>
              <a:t>h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i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me</a:t>
            </a: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ry </a:t>
            </a:r>
            <a:r>
              <a:rPr b="0" lang="en-US" sz="9000" spc="-1" strike="noStrike">
                <a:solidFill>
                  <a:srgbClr val="010199"/>
                </a:solidFill>
                <a:latin typeface="Arial"/>
              </a:rPr>
              <a:t>I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nv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lv</a:t>
            </a: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ng M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l</a:t>
            </a:r>
            <a:r>
              <a:rPr b="0" lang="en-US" sz="9000" spc="-1" strike="noStrike">
                <a:solidFill>
                  <a:srgbClr val="010199"/>
                </a:solidFill>
                <a:latin typeface="Arial"/>
              </a:rPr>
              <a:t>a</a:t>
            </a: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 C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n</a:t>
            </a:r>
            <a:r>
              <a:rPr b="0" lang="en-US" sz="9000" spc="-1" strike="noStrike">
                <a:solidFill>
                  <a:srgbClr val="010199"/>
                </a:solidFill>
                <a:latin typeface="Arial"/>
              </a:rPr>
              <a:t>c</a:t>
            </a: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nt</a:t>
            </a:r>
            <a:r>
              <a:rPr b="0" lang="en-US" sz="9000" spc="-1" strike="noStrike">
                <a:solidFill>
                  <a:srgbClr val="010199"/>
                </a:solidFill>
                <a:latin typeface="Arial"/>
              </a:rPr>
              <a:t>r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ati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9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68000" y="5516280"/>
            <a:ext cx="68756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osty"/>
              </a:rPr>
              <a:t>By, Abby Leung &amp; Peggy F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osty"/>
              </a:rPr>
              <a:t>Block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0560" y="333360"/>
            <a:ext cx="5256360" cy="11397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4. Molar Rati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molar ratio to convert moles of given quantity to wanted 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Note: Coefficients in balanced equation represent molar rat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ar ratio used in fraction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3:4 =3/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6600"/>
                </a:solidFill>
                <a:latin typeface="Californian FB"/>
              </a:rPr>
              <a:t>Which mol quantity in molar ratio is the denominator?</a:t>
            </a:r>
            <a:endParaRPr b="0" lang="en-US" sz="5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enominato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 ratio of the given qua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umerato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 ratio of wanted qua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6000" y="3787920"/>
            <a:ext cx="2865240" cy="2865240"/>
          </a:xfrm>
          <a:prstGeom prst="rect">
            <a:avLst/>
          </a:prstGeom>
          <a:ln w="57240">
            <a:solidFill>
              <a:srgbClr val="99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7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1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5. Molarity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329440"/>
          </a:xfrm>
          <a:prstGeom prst="rect">
            <a:avLst/>
          </a:prstGeom>
          <a:noFill/>
          <a:ln w="76320">
            <a:solidFill>
              <a:srgbClr val="ffff00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step 4’s answer &amp; molar concentration to answer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tep turns mol of a quantity to the answer of the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larity given in form: ? M (mol/L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pending on question, you may need to rearrange molarity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7f20a"/>
                </a:solidFill>
                <a:latin typeface="Arial"/>
              </a:rPr>
              <a:t>c=m/v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als     </a:t>
            </a:r>
            <a:r>
              <a:rPr b="1" lang="en-US" sz="3200" spc="-1" strike="noStrike">
                <a:solidFill>
                  <a:srgbClr val="e7f20a"/>
                </a:solidFill>
                <a:latin typeface="Arial"/>
              </a:rPr>
              <a:t>v=m/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equals      </a:t>
            </a:r>
            <a:r>
              <a:rPr b="1" lang="en-US" sz="3200" spc="-1" strike="noStrike">
                <a:solidFill>
                  <a:srgbClr val="e7f20a"/>
                </a:solidFill>
                <a:latin typeface="Arial"/>
              </a:rPr>
              <a:t>m=c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et’s Try It Together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280" y="1412640"/>
            <a:ext cx="7561080" cy="2663640"/>
          </a:xfrm>
          <a:prstGeom prst="rect">
            <a:avLst/>
          </a:prstGeom>
          <a:solidFill>
            <a:srgbClr val="3399ff"/>
          </a:solidFill>
          <a:ln w="76320">
            <a:solidFill>
              <a:srgbClr val="990099"/>
            </a:solidFill>
            <a:prstDash val="lgDashDot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udent wants to put 50.0L of hydrogen gas at STP into a plastic bag by reacting excess aluminum metal with 3.00M sodium hydroxide solution according to the reaction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volume of NaOH solution is requir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43280" y="4292640"/>
            <a:ext cx="4038840" cy="2173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9640" y="4221000"/>
            <a:ext cx="2043360" cy="244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7380360" y="260280"/>
            <a:ext cx="866880" cy="858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826920" y="260280"/>
            <a:ext cx="8668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Step 1: Write out the Equ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gen gas = H2 (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hydrogen is a diatomic molec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(s) + NaOH(aq) + H2O(l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aAlO2(aq) + H2(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365720"/>
            <a:ext cx="25671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512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Arial"/>
              </a:rPr>
              <a:t>Step 2: Balance the Equ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844280"/>
            <a:ext cx="89647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2Al(s) + 2NaOH(aq) + 2H2O(l) </a:t>
            </a:r>
            <a:r>
              <a:rPr b="0" lang="en-US" sz="27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 2NaAlO2(aq) + 3H2(g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427640" y="4221000"/>
            <a:ext cx="2232000" cy="2113200"/>
          </a:xfrm>
          <a:prstGeom prst="rect">
            <a:avLst/>
          </a:prstGeom>
          <a:ln w="76320">
            <a:solidFill>
              <a:srgbClr val="008000"/>
            </a:solidFill>
            <a:prstDash val="lgDashDot"/>
            <a:miter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556000" y="3141720"/>
            <a:ext cx="2031840" cy="203184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8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2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Step 3: Find mole of given quantit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quantity: 50.0L Hydrogen gas at ST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les of H2 = 50.0L(1mol/22.4L)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2.32 mol H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7414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6192720" cy="113976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4: Molar Rati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Moles of given quantity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.32 mol of H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Moles of wanted quantity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? Mol of Na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Al(s) + </a:t>
            </a:r>
            <a:r>
              <a:rPr b="1" lang="en-US" sz="2600" spc="-1" strike="noStrike" u="sng">
                <a:solidFill>
                  <a:srgbClr val="ff3300"/>
                </a:solidFill>
                <a:uFillTx/>
                <a:latin typeface="Arial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OH(aq) + 2H2O(l) -&gt; 2NaAlO2(aq) + </a:t>
            </a:r>
            <a:r>
              <a:rPr b="1" lang="en-US" sz="2600" spc="-1" strike="noStrike" u="sng">
                <a:solidFill>
                  <a:srgbClr val="ff3300"/>
                </a:solidFill>
                <a:uFillTx/>
                <a:latin typeface="Arial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2(g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 : 3 ratio (mol of NaOH: mol of H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2:3 = 2/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Mol(NaOH)= 2.32 mol H2 (2 mol NaOH/3 mol H2)= 1.49 mol NaO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What </a:t>
            </a:r>
            <a:r>
              <a:rPr b="1" i="1" lang="en-US" sz="4000" spc="-1" strike="noStrike">
                <a:solidFill>
                  <a:srgbClr val="b2b2b2"/>
                </a:solidFill>
                <a:latin typeface="Arial"/>
              </a:rPr>
              <a:t>volume</a:t>
            </a: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 of NaOH solution is required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49 mol NaO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step 4 answ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.00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dium hydroxide (NaOH) solution (giv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Volume(v) = Mole(n)/ Concentration(c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earranged Molarity equ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Volume of NaOH = (1.49 mol) / (3.00mol/L) = </a:t>
            </a:r>
            <a:r>
              <a:rPr b="1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0.496L Na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004160" y="5013360"/>
            <a:ext cx="21398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385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8" dur="385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0" dur="38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2" dur="38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2b2b2"/>
                </a:solidFill>
                <a:latin typeface="Broadway"/>
              </a:rPr>
              <a:t>You Are Done!</a:t>
            </a:r>
            <a:endParaRPr b="0" lang="en-US" sz="5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swer: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0.496L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of Sodium Hydroxide (NaOH) solution was requi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Engravers MT"/>
              </a:rPr>
              <a:t>ALL IT TAKES IS THESE 5 SPECIAL STEPS!</a:t>
            </a:r>
            <a:r>
              <a:rPr b="1" i="1" lang="en-US" sz="3700" spc="-1" strike="noStrike">
                <a:solidFill>
                  <a:srgbClr val="ffffff"/>
                </a:solidFill>
                <a:latin typeface="Engravers MT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72360" y="4508640"/>
            <a:ext cx="2520720" cy="2017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4437000"/>
            <a:ext cx="223200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Stoichiometry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Elephant"/>
              </a:rPr>
              <a:t>Stoichiometry is the relationships between the amount of reactants used in a chemical reaction and the amount of products produced by the reaction.</a:t>
            </a: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24360" y="4076640"/>
            <a:ext cx="2376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78920" cy="69580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87280" y="1557000"/>
            <a:ext cx="7715520" cy="43210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Stencil"/>
              </a:rPr>
              <a:t>Still having troubles remembering how to do these questions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Stencil"/>
              </a:rPr>
              <a:t>NO WORRIE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Stencil"/>
              </a:rPr>
              <a:t>We have a song to help you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f I were a Mole Lyr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608720" cy="5661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*Tune: ‘If I were a Boy’ by Beyonce Know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f I were a mole even just for a da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’d get up every morning just to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Do stoichiometry problem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 love those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With molar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Except I always had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ecret to solving all these tricky on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59280" y="1196640"/>
            <a:ext cx="4284720" cy="566100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f I were a mo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 could always underst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How you could solve this que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With five really ea-s-y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member tha-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olar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s c equals n over 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t’s also called mola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nd you can use STP to sol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757080" y="-4009320"/>
            <a:ext cx="2775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4316400" cy="6480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f I were a m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The first big step is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Write out a proper equ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With all the right element symb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ep two is to-o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alance the equation both s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ause all elements need to ha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ame number of atoms on both s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260280"/>
            <a:ext cx="4316400" cy="640872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f I were a m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 could always under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How you could solve this qu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With 5 very eas-s-y st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Now let’s move 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or step three I wou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Use STP to change litres to m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ecause you need moles for step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Use coefficients formula to 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The molar rat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We are almost at 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Recall mol of first e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nd molar rat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To find mol of what you wa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Next use molarity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ind the volume in litr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3969000" cy="4797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onfused when stoichiometry involves molar concentration? 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Stencil"/>
              </a:rPr>
              <a:t>MOLAR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9900cc"/>
                </a:solidFill>
                <a:latin typeface="Broadway"/>
              </a:rPr>
              <a:t>MOLES?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ritannic Bold"/>
              </a:rPr>
              <a:t>	</a:t>
            </a:r>
            <a:r>
              <a:rPr b="1" lang="en-US" sz="3700" spc="-1" strike="noStrike">
                <a:solidFill>
                  <a:srgbClr val="ff0066"/>
                </a:solidFill>
                <a:latin typeface="Britannic Bold"/>
              </a:rPr>
              <a:t>STOICHIOMETRY!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Just Remember This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9244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ff33"/>
                </a:solidFill>
                <a:latin typeface="Arial"/>
              </a:rPr>
              <a:t>W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e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ff33"/>
                </a:solidFill>
                <a:latin typeface="Arial"/>
              </a:rPr>
              <a:t>B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ke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ff33"/>
                </a:solidFill>
                <a:latin typeface="Arial"/>
              </a:rPr>
              <a:t>F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resh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ff33"/>
                </a:solidFill>
                <a:latin typeface="Arial"/>
              </a:rPr>
              <a:t>M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gnificent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ff33"/>
                </a:solidFill>
                <a:latin typeface="Arial"/>
              </a:rPr>
              <a:t>M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uffins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43640" y="4465800"/>
            <a:ext cx="2508120" cy="217296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5 </a:t>
            </a: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REALLY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EASY STE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1. 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te an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2. 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ance the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3. 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 the mole of the given 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4. 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ar Rat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5. 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arity- Use equation to Solve Your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10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1000" autoRev="1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1000" autoRev="1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1000" autoRev="1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1000" autoRev="1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CTS YOU SHOULD KNO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TP = 22.4 L/mol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Molar Concentration = Molarity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= n/v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-or-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Molarity =mole/volume (in L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KEEP TRACK OF SIG FIGS DURING YOUR CALCULATIONS!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8920" y="277920"/>
            <a:ext cx="6553080" cy="1139760"/>
          </a:xfrm>
          <a:prstGeom prst="rect">
            <a:avLst/>
          </a:prstGeom>
          <a:solidFill>
            <a:srgbClr val="993366"/>
          </a:solidFill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askerville Old Face"/>
              </a:rPr>
              <a:t>1. Write the Equ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ut reactants on the left side of equation &amp; products on the right sid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ants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Produ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"/>
              </a:rPr>
              <a:t>2. Balance Equ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Georgia"/>
              </a:rPr>
              <a:t>	</a:t>
            </a:r>
            <a:r>
              <a:rPr b="0" lang="en-US" sz="4000" spc="-1" strike="noStrike">
                <a:solidFill>
                  <a:srgbClr val="3399ff"/>
                </a:solidFill>
                <a:latin typeface="Georgia"/>
              </a:rPr>
              <a:t>Make sure that each element has the same number of atoms on both side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227640" y="2997360"/>
            <a:ext cx="2389320" cy="3528720"/>
          </a:xfrm>
          <a:prstGeom prst="rect">
            <a:avLst/>
          </a:prstGeom>
          <a:ln w="19080">
            <a:solidFill>
              <a:srgbClr val="ffcc66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6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gravers MT"/>
              </a:rPr>
              <a:t>3. Find mole of given quantit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rt given quantity to # of mol of 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If given quantity in L: use STP to con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P= 1 mol/ 22.4 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If given quantity in particles: Use Avogadro’s Number to con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02 × 10^2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6:47:09Z</dcterms:created>
  <dc:creator>Betty Ho</dc:creator>
  <dc:description/>
  <dc:language>en-US</dc:language>
  <cp:lastModifiedBy>Betty Ho</cp:lastModifiedBy>
  <dcterms:modified xsi:type="dcterms:W3CDTF">2009-03-01T23:23:36Z</dcterms:modified>
  <cp:revision>12</cp:revision>
  <dc:subject/>
  <dc:title>Stoichiometry Involving Molar Concentration</dc:title>
</cp:coreProperties>
</file>