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6C2-C809-42A8-B32B-12385B2B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9A3-09C8-44C8-AD1A-678F1D0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03C-503D-4EF3-9338-E51A482E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AEB-34C7-4AA8-ABCB-E01C02D9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C56D-D1B6-415C-B278-3AD13A27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2D3-5A55-47AA-8EB2-9513B26B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51C5-C25F-46B8-8AF4-EBEE25F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88D-0631-4636-BC9F-473F6390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EDE9-4AD0-4374-A540-8E52B530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4B37-8EDE-47DC-80AE-07E00F97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3E35-AF39-4F82-B19C-D4DAEA2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593-A692-4E41-A2DB-06DC8CDB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D06-9081-4D51-A1BD-346C2FD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1089-164B-4D3E-9712-7CA9E0E2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56EA-2232-4629-9D62-CCF7A63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A3A-CA11-4876-9B57-62FFD174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6C9F-58C2-4E2C-B047-56127ECE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C1B-20D0-4A0F-846E-C815686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6C3-5078-42BE-B574-DD6CCFF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8F8-1395-4C3E-B9A1-278F8449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F80-CA0B-4AAC-9D42-079D8D5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50C-69F1-4872-98C0-B472D20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247-2490-430D-9B6F-2D7D2E8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CBE-F40C-48CD-B24A-83C8F48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FFB-9518-41B9-82CD-158496E456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FC1-6328-49C7-84D5-9F299FF33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vvc.edu/offices/lc/multimedia/chemistry.gif&amp;imgrefurl=http://current.com/items/89625777/impressive_chemistry_videos.htm&amp;usg=__WgswJ1v4syVOPTgwQ2XOWXc-JUY=&amp;h=405&amp;w=474&amp;sz=10&amp;hl=en&amp;start=2&amp;um=1&amp;tbnid=kkssCqEsQI1e4M:&amp;tbnh=110&amp;tbnw=129&amp;prev=/images%3Fq%3Dchemistry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members.cox.net/grouchyguy/images/fireworks.jpg&amp;imgrefurl=http://dennistennant.wordpress.com/2008/07/03/lets-make-fireworks-photos/&amp;usg=__hxGvTvgswv1M-2B8x87AAGYcq3Y=&amp;h=645&amp;w=650&amp;sz=127&amp;hl=en&amp;start=33&amp;um=1&amp;tbnid=Y1MnMHdKHNIu-M:&amp;tbnh=136&amp;tbnw=137&amp;prev=/images%3Fq%3Dfireworks%26start%3D18%26ndsp%3D18%26um%3D1%26hl%3D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c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h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me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ry 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v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v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g M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a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 C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c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t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at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9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68000" y="5516280"/>
            <a:ext cx="6875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y, Abby Leung &amp; Peggy F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lock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256360" cy="1139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lar ratio to convert moles of given quantity to wanted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Note: Coefficients in balanced equation represent molar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 ratio used in fractio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3:4 =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00"/>
                </a:solidFill>
                <a:latin typeface="Californian FB"/>
              </a:rPr>
              <a:t>Which mol quantity in molar ratio is the denominator?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omin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the given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umer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wanted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3787920"/>
            <a:ext cx="2865240" cy="286524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. Molarit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ep 4’s answer &amp; molar concentration to answ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ep turns mol of a quantity to the answer of the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arity given in form: ? M (mol/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ing on question, you may need to rearrange molarity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c=m/v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s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v=m/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equals 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m=c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t’s Try It Togeth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2663640"/>
          </a:xfrm>
          <a:prstGeom prst="rect">
            <a:avLst/>
          </a:prstGeom>
          <a:solidFill>
            <a:srgbClr val="3399ff"/>
          </a:solidFill>
          <a:ln w="76320">
            <a:solidFill>
              <a:srgbClr val="990099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wants to put 50.0L of hydrogen gas at STP into a plastic bag by reacting excess aluminum metal with 3.00M sodium hydroxide solution according to the react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olume of NaOH solution 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038840" cy="217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043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86688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ep 1: Write out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gas = H2 (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hydrogen is a diatomic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(s) + NaOH(aq) + H2O(l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AlO2(aq) + H2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65720"/>
            <a:ext cx="256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tep 2: Balanc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Al(s) + 2NaOH(aq) + 2H2O(l) </a:t>
            </a:r>
            <a:r>
              <a:rPr b="0" lang="en-US" sz="27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2NaAlO2(aq) + 3H2(g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232000" cy="2113200"/>
          </a:xfrm>
          <a:prstGeom prst="rect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031840" cy="20318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tep 3: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quantity: 50.0L Hydrogen gas at S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of H2 = 50.0L(1mol/22.4L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32 mol H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741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92720" cy="11397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given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32 mol of H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wanted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Mol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Al(s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OH(aq) + 2H2O(l) -&gt; 2NaAlO2(aq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2(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: 3 ratio (mol of NaOH: mol of H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2:3 = 2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l(NaOH)= 2.32 mol H2 (2 mol NaOH/3 mol H2)= 1.49 mol NaO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What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volum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of NaOH solution is requir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49 mol NaO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p 4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00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hydroxide (NaOH) solution (g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Volume(v) = Mole(n)/ Concentration(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rranged Molarity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olume of NaOH = (1.49 mol) / (3.00mol/L) = 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0.496L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04160" y="5013360"/>
            <a:ext cx="2139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Broadway"/>
              </a:rPr>
              <a:t>You Are Done!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.496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f Sodium Hydroxide (NaOH) solution w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Engravers MT"/>
              </a:rPr>
              <a:t>ALL IT TAKES IS THESE 5 SPECIAL STEPS!</a:t>
            </a:r>
            <a:r>
              <a:rPr b="1" i="1" lang="en-US" sz="3700" spc="-1" strike="noStrike">
                <a:solidFill>
                  <a:srgbClr val="ffffff"/>
                </a:solidFill>
                <a:latin typeface="Engravers MT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520720" cy="201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2232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Stoichiome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Elephant"/>
              </a:rPr>
              <a:t>Stoichiometry is the relationships between the amount of reactants used in a chemical reaction and the amount of products produced by the reaction.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715520" cy="43210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Still having troubles remembering how to do these quest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NO WORRI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We have a song to help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I were a Mole Lyr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661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Tune: ‘If I were a Boy’ by Beyonce Know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even just for a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’d get up every morning just 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 stoichiometry proble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love thos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cept I always ha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ret to solving all these tricky 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9280" y="1196640"/>
            <a:ext cx="4284720" cy="5661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five really ea-s-y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member tha-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s c equals n over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t’s also called mo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nd you can use STP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757080" y="-4009320"/>
            <a:ext cx="277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rst big step is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rite out a proper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all the right element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ep two is to-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lance the equati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use all elements need to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ame number of atoms 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40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5 very eas-s-y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ow let’s move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step three I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STP to change litres to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cause you need moles for 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coefficients formula to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e are almost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call mol of firs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nd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o find mol of what you w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xt use molarit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nd the volume in lit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969000" cy="479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sed when stoichiometry involves molar concentration?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Stencil"/>
              </a:rPr>
              <a:t>MO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9900cc"/>
                </a:solidFill>
                <a:latin typeface="Broadway"/>
              </a:rPr>
              <a:t>MOLES?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ritannic Bold"/>
              </a:rPr>
              <a:t>	</a:t>
            </a:r>
            <a:r>
              <a:rPr b="1" lang="en-US" sz="3700" spc="-1" strike="noStrike">
                <a:solidFill>
                  <a:srgbClr val="ff0066"/>
                </a:solidFill>
                <a:latin typeface="Britannic Bold"/>
              </a:rPr>
              <a:t>STOICHIOMETRY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st Remember Thi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W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k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h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gnificent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ffin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4465800"/>
            <a:ext cx="2508120" cy="21729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REALLY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ASY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. 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an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. 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nce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. 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 the mole of the given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4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5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ity- Use equation to Solve Your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00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YOU SHOULD KNO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P = 22.4 L/mo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 Concentration = Molar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= n/v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or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ity =mole/volume (in 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KEEP TRACK OF SIG FIGS DURING YOUR CALCULATIONS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77920"/>
            <a:ext cx="6553080" cy="1139760"/>
          </a:xfrm>
          <a:prstGeom prst="rect">
            <a:avLst/>
          </a:prstGeom>
          <a:solidFill>
            <a:srgbClr val="993366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askerville Old Face"/>
              </a:rPr>
              <a:t>1. Writ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t reactants on the left side of equation &amp; products on the right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2. Balanc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Make sure that each element has the same number of atoms on both sid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2997360"/>
            <a:ext cx="2389320" cy="3528720"/>
          </a:xfrm>
          <a:prstGeom prst="rect">
            <a:avLst/>
          </a:prstGeom>
          <a:ln w="19080">
            <a:solidFill>
              <a:srgbClr val="ffcc66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gravers MT"/>
              </a:rPr>
              <a:t>3.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given quantity to # of mol of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L: use STP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P= 1 mol/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particles: Use Avogadro’s Number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 × 10^2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47:09Z</dcterms:created>
  <dc:creator>Betty Ho</dc:creator>
  <dc:description/>
  <dc:language>en-US</dc:language>
  <cp:lastModifiedBy>Betty Ho</cp:lastModifiedBy>
  <dcterms:modified xsi:type="dcterms:W3CDTF">2009-03-01T23:23:36Z</dcterms:modified>
  <cp:revision>12</cp:revision>
  <dc:subject/>
  <dc:title>Stoichiometry Involving Molar Concentration</dc:title>
</cp:coreProperties>
</file>