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17E-0457-4A36-9594-F5DD6B36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784-7A96-4B74-A468-DE466F8D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C22-9D38-40DB-B3A4-DC453D34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01B-0506-4487-871E-2E7BB65B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578A-22CB-42C1-883D-25A084BF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EC84-ACC0-4F92-8787-2610286B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BCC8-3305-427B-B82D-D02BECD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36E8-94CD-4E75-8AE1-8E6C648A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16FB-96CA-436B-9438-A7B8E18E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D931-9EBA-4CCF-B7AE-F28EDC95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7F6F-8999-4194-845B-C65149C7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B09-8709-47D2-ADDA-41A4DA82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4F66-0ED5-4DF5-A4F5-CBAB25B6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9F9F-BB83-47B2-8CDC-E7B07981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2233-B192-4ACD-85CD-CF49573E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D804-FAE1-4F76-A3F6-454D3D86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0434-F4D0-46AC-B0AD-9F6DF967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BBB-4BA5-4314-B8B2-ECBF74B5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1D3-3825-4A45-8B76-9D74952C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63A-B4D6-4CB9-B0DA-C864A337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037-1F59-4FD3-B89C-62557B5E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EAA-ED20-411A-9D2E-AB6296D7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521-0118-41CB-AA55-48597F3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2D6-D6A7-4625-9B4D-F6A2CD7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28B1-0BD7-4747-9117-DD00CB54DE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48F0-4F27-4E6A-9A6A-26BF650C80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vvc.edu/offices/lc/multimedia/chemistry.gif&amp;imgrefurl=http://current.com/items/89625777/impressive_chemistry_videos.htm&amp;usg=__WgswJ1v4syVOPTgwQ2XOWXc-JUY=&amp;h=405&amp;w=474&amp;sz=10&amp;hl=en&amp;start=2&amp;um=1&amp;tbnid=kkssCqEsQI1e4M:&amp;tbnh=110&amp;tbnw=129&amp;prev=/images%3Fq%3Dchemistry%26um%3D1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a/imgres?imgurl=http://members.cox.net/grouchyguy/images/fireworks.jpg&amp;imgrefurl=http://dennistennant.wordpress.com/2008/07/03/lets-make-fireworks-photos/&amp;usg=__hxGvTvgswv1M-2B8x87AAGYcq3Y=&amp;h=645&amp;w=650&amp;sz=127&amp;hl=en&amp;start=33&amp;um=1&amp;tbnid=Y1MnMHdKHNIu-M:&amp;tbnh=136&amp;tbnw=137&amp;prev=/images%3Fq%3Dfireworks%26start%3D18%26ndsp%3D18%26um%3D1%26hl%3D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92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c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h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me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ry 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v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v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g M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a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 C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c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t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at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9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68000" y="5516280"/>
            <a:ext cx="6875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y, Abby Leung &amp; Peggy F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lock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5256360" cy="1139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olar ratio to convert moles of given quantity to wanted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Note: Coefficients in balanced equation represent molar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ar ratio used in fractio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3:4 =3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00"/>
                </a:solidFill>
                <a:latin typeface="Californian FB"/>
              </a:rPr>
              <a:t>Which mol quantity in molar ratio is the denominator?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omin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the given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umer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wanted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6000" y="3787920"/>
            <a:ext cx="2865240" cy="286524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. Molarity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tep 4’s answer &amp; molar concentration to answer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ep turns mol of a quantity to the answer of the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arity given in form: ? M (mol/L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ending on question, you may need to rearrange molarity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c=m/v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als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v=m/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equals 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m=c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t’s Try It Together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561080" cy="2663640"/>
          </a:xfrm>
          <a:prstGeom prst="rect">
            <a:avLst/>
          </a:prstGeom>
          <a:solidFill>
            <a:srgbClr val="3399ff"/>
          </a:solidFill>
          <a:ln w="76320">
            <a:solidFill>
              <a:srgbClr val="990099"/>
            </a:solidFill>
            <a:prstDash val="lgDashDot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wants to put 50.0L of hydrogen gas at STP into a plastic bag by reacting excess aluminum metal with 3.00M sodium hydroxide solution according to the reaction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volume of NaOH solution is requi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3280" y="4292640"/>
            <a:ext cx="4038840" cy="217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204336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866880" cy="85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26920" y="260280"/>
            <a:ext cx="8668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tep 1: Write out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gas = H2 (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hydrogen is a diatomic molec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(s) + NaOH(aq) + H2O(l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AlO2(aq) + H2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65720"/>
            <a:ext cx="2567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Step 2: Balanc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96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2Al(s) + 2NaOH(aq) + 2H2O(l) </a:t>
            </a:r>
            <a:r>
              <a:rPr b="0" lang="en-US" sz="27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2NaAlO2(aq) + 3H2(g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4221000"/>
            <a:ext cx="2232000" cy="2113200"/>
          </a:xfrm>
          <a:prstGeom prst="rect">
            <a:avLst/>
          </a:prstGeom>
          <a:ln w="76320">
            <a:solidFill>
              <a:srgbClr val="008000"/>
            </a:solidFill>
            <a:prstDash val="lgDashDot"/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2031840" cy="203184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tep 3: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quantity: 50.0L Hydrogen gas at S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s of H2 = 50.0L(1mol/22.4L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.32 mol H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7414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192720" cy="11397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4: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given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.32 mol of H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wanted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? Mol of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Al(s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OH(aq) + 2H2O(l) -&gt; 2NaAlO2(aq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2(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: 3 ratio (mol of NaOH: mol of H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2:3 = 2/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Mol(NaOH)= 2.32 mol H2 (2 mol NaOH/3 mol H2)= 1.49 mol NaO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What </a:t>
            </a: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volume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of NaOH solution is required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49 mol NaO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tep 4 answ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00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hydroxide (NaOH) solution (giv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Volume(v) = Mole(n)/ Concentration(c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arranged Molarity equ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olume of NaOH = (1.49 mol) / (3.00mol/L) = 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0.496L N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04160" y="5013360"/>
            <a:ext cx="21398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2b2b2"/>
                </a:solidFill>
                <a:latin typeface="Broadway"/>
              </a:rPr>
              <a:t>You Are Done!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0.496L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of Sodium Hydroxide (NaOH) solution wa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Engravers MT"/>
              </a:rPr>
              <a:t>ALL IT TAKES IS THESE 5 SPECIAL STEPS!</a:t>
            </a:r>
            <a:r>
              <a:rPr b="1" i="1" lang="en-US" sz="3700" spc="-1" strike="noStrike">
                <a:solidFill>
                  <a:srgbClr val="ffffff"/>
                </a:solidFill>
                <a:latin typeface="Engravers MT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2520720" cy="2017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437000"/>
            <a:ext cx="22320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Stoichiometr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Elephant"/>
              </a:rPr>
              <a:t>Stoichiometry is the relationships between the amount of reactants used in a chemical reaction and the amount of products produced by the reaction.</a:t>
            </a: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407664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78920" cy="6958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557000"/>
            <a:ext cx="7715520" cy="43210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Still having troubles remembering how to do these question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NO WORRI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We have a song to help you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f I were a Mole Lyr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5661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Tune: ‘If I were a Boy’ by Beyonce Know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even just for a 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’d get up every morning just 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o stoichiometry problem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love thos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cept I always had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cret to solving all these tricky 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9280" y="1196640"/>
            <a:ext cx="4284720" cy="56610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five really ea-s-y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member tha-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s c equals n over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t’s also called mo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nd you can use STP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757080" y="-4009320"/>
            <a:ext cx="277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first big step is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rite out a proper eq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all the right element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ep two is to-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alance the equati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ause all elements need to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ame number of atoms 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316400" cy="640872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5 very eas-s-y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ow let’s move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 step three I w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STP to change litres to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cause you need moles for step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coefficients formula to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e are almost at 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call mol of firs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nd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o find mol of what you w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ext use molarity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nd the volume in lit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969000" cy="479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fused when stoichiometry involves molar concentration?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Stencil"/>
              </a:rPr>
              <a:t>MOLA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9900cc"/>
                </a:solidFill>
                <a:latin typeface="Broadway"/>
              </a:rPr>
              <a:t>MOLES?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ritannic Bold"/>
              </a:rPr>
              <a:t>	</a:t>
            </a:r>
            <a:r>
              <a:rPr b="1" lang="en-US" sz="3700" spc="-1" strike="noStrike">
                <a:solidFill>
                  <a:srgbClr val="ff0066"/>
                </a:solidFill>
                <a:latin typeface="Britannic Bold"/>
              </a:rPr>
              <a:t>STOICHIOMETRY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st Remember Thi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W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k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F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h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gnificent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ffins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43640" y="4465800"/>
            <a:ext cx="2508120" cy="217296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 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REALLY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ASY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1. 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 an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2. 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nce th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3. 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 the mole of the given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4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 Rat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5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ity- Use equation to Solve Your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00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00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CTS YOU SHOULD KNO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P = 22.4 L/mol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 Concentration = Molarit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= n/v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or-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ity =mole/volume (in L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KEEP TRACK OF SIG FIGS DURING YOUR CALCULATIONS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277920"/>
            <a:ext cx="6553080" cy="1139760"/>
          </a:xfrm>
          <a:prstGeom prst="rect">
            <a:avLst/>
          </a:prstGeom>
          <a:solidFill>
            <a:srgbClr val="993366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askerville Old Face"/>
              </a:rPr>
              <a:t>1. Writ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t reactants on the left side of equation &amp; products on the right si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2. Balanc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Make sure that each element has the same number of atoms on both side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2997360"/>
            <a:ext cx="2389320" cy="3528720"/>
          </a:xfrm>
          <a:prstGeom prst="rect">
            <a:avLst/>
          </a:prstGeom>
          <a:ln w="19080">
            <a:solidFill>
              <a:srgbClr val="ffcc66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gravers MT"/>
              </a:rPr>
              <a:t>3.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given quantity to # of mol of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L: use STP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P= 1 mol/ 22.4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particles: Use Avogadro’s Number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2 × 10^2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6:47:09Z</dcterms:created>
  <dc:creator>Betty Ho</dc:creator>
  <dc:description/>
  <dc:language>en-US</dc:language>
  <cp:lastModifiedBy>Betty Ho</cp:lastModifiedBy>
  <dcterms:modified xsi:type="dcterms:W3CDTF">2009-03-01T23:23:36Z</dcterms:modified>
  <cp:revision>12</cp:revision>
  <dc:subject/>
  <dc:title>Stoichiometry Involving Molar Concentration</dc:title>
</cp:coreProperties>
</file>