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E4B-BE29-438E-89BF-1E5DCAAF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E28-DC58-43F4-A856-988729BA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919-3560-4B66-92EA-EE08D698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B20-EEFE-45C0-ACAD-8300D0D3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118-FBF9-4022-B82E-838487A9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F63-3C3C-43BA-95D5-8B67941C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903-A777-42C4-AE8F-12C91678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A47-3E78-4F7D-99D5-166EF195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7A4-3313-4941-B454-CA3D94F0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B55-C9BF-4684-809D-B923D79F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B74-A891-4CB8-8C64-ACAA19E3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9D3-80C8-40FC-95AC-1D239105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4D8D-1732-4A71-B9AD-4B2538CD22D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85000" cy="15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2.5 centimeters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C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c” or centi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il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²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B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k” or ki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g” or gra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400560" cy="228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91440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Rockwell"/>
              </a:rPr>
              <a:t>ANSWERS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47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e200"/>
                </a:solidFill>
                <a:latin typeface="Rockwell"/>
              </a:rPr>
              <a:t>CONGRATULATIONS, NOW YOU KNOW SI UNITS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4114800" cy="388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www2.waterforduhs.k12.wi.us/staffweb/Sciencefolder/Mole%20Day/MOLE_DAY_EXPLOD.gif"/>
          <p:cNvPicPr/>
          <p:nvPr/>
        </p:nvPicPr>
        <p:blipFill>
          <a:blip r:embed="rId2"/>
          <a:stretch/>
        </p:blipFill>
        <p:spPr>
          <a:xfrm>
            <a:off x="5334120" y="3048120"/>
            <a:ext cx="3286080" cy="3295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649 -0.01527 C 0.26823 0.00139 0.27187 0.01737 0.27725 0.03241 C 0.27847 0.03982 0.28142 0.04468 0.28333 0.05209 C 0.28455 0.0625 0.28663 0.07223 0.28819 0.08241 C 0.28993 0.11135 0.28993 0.10301 0.28819 0.14584 C 0.28784 0.15602 0.28402 0.16829 0.28125 0.17755 C 0.27291 0.20625 0.26111 0.23264 0.24357 0.25278 C 0.22864 0.26991 0.21562 0.2794 0.19705 0.28704 C 0.19444 0.2882 0.19201 0.29005 0.18923 0.29098 C 0.18472 0.29237 0.17534 0.29375 0.17534 0.29399 C 0.1658 0.29237 0.16458 0.2926 0.1585 0.28449 C 0.15694 0.27686 0.1552 0.26945 0.15364 0.26204 C 0.15295 0.25232 0.15 0.24283 0.14965 0.23311 C 0.14826 0.18866 0.15 0.14792 0.16354 0.10764 C 0.16718 0.09676 0.1717 0.08658 0.17934 0.07987 C 0.17343 0.07686 0.16753 0.07524 0.16145 0.07315 C 0.15 0.07408 0.13819 0.07315 0.12691 0.07593 C 0.11823 0.07824 0.08871 0.09699 0.08125 0.10232 C 0.02361 0.14306 -0.01424 0.20903 -0.03559 0.28982 C -0.0599 0.24769 -0.07848 0.20718 -0.09306 0.15764 C -0.09966 0.11019 -0.09809 0.04838 -0.05643 0.03357 C -0.05209 0.03542 -0.04723 0.03542 -0.04341 0.03889 C -0.03976 0.04237 -0.03264 0.06482 -0.0316 0.06806 C -0.02257 0.12477 -0.01945 0.22037 -0.06927 0.2463 C -0.09202 0.24144 -0.11146 0.22686 -0.12361 0.2 C -0.12396 0.19815 -0.12466 0.19653 -0.12466 0.19468 C -0.12466 0.19329 -0.12396 0.19723 -0.12361 0.19862 C -0.12188 0.20649 -0.11875 0.22246 -0.11875 0.22269 C -0.11789 0.23079 -0.11545 0.23912 -0.1158 0.24746 C -0.11615 0.25741 -0.11823 0.2669 -0.11962 0.27662 C -0.12014 0.28033 -0.12275 0.28334 -0.12275 0.28704 C -0.12275 0.2882 -0.12153 0.28519 -0.12066 0.28449 C -0.1191 0.28334 -0.11719 0.28334 -0.1158 0.28195 C -0.10903 0.2757 -0.10261 0.26875 -0.09601 0.26204 C -0.07205 0.2375 -0.04983 0.21574 -0.01875 0.21065 C 0.02413 0.21482 0.03593 0.28449 0.03975 0.33195 C 0.0375 0.36737 0.04461 0.33195 0.04861 0.32269 C 0.06024 0.29561 0.07205 0.26875 0.0842 0.24213 C 0.12795 0.14607 0.17066 0.02963 0.26545 0.02176 C 0.28142 0.02593 0.28107 0.02963 0.28715 0.04954 C 0.2927 0.16829 0.25607 0.28635 0.17031 0.33473 C 0.14027 0.35162 0.1309 0.34954 0.09913 0.35324 C 0.06805 0.34977 0.0368 0.34954 0.00607 0.3426 C -0.00868 0.33936 -0.02257 0.33033 -0.03646 0.32269 C -0.09879 0.28889 -0.14254 0.24537 -0.17014 0.16297 C -0.17761 0.10672 -0.18959 0.04954 -0.14254 0.01922 C -0.12813 0.00996 -0.12014 0.01204 -0.10382 0.01112 C -0.06077 0.02662 -0.03611 0.07431 -0.01667 0.12616 C 0.00798 0.19213 0.01823 0.26459 0.02291 0.33727 C 0.01892 0.35834 0.02118 0.36088 0.00694 0.36366 C 3.61111000000015E-006 0.36158 -0.00712 0.36065 -0.01372 0.35718 C -0.04775 0.33866 -0.05087 0.27199 -0.0573 0.23311 C -0.05851 0.17385 -0.07014 0.1044 -0.01962 0.07987 C 0.01041 0.09561 0.00486 0.12199 0.01093 0.16436 C 0.01545 0.23125 0.0184 0.23033 0.00798 0.30556 C 0.00555 0.32292 -0.00209 0.32755 -0.01285 0.3294 C -0.01684 0.32917 -0.05452 0.32917 -0.06528 0.32153 C -0.07934 0.31158 -0.09757 0.29329 -0.11181 0.27917 C -0.1408 0.22014 -0.13212 0.24815 -0.14341 0.19862 C -0.14948 0.10973 -0.14705 -0.00254 -0.09601 -0.0706 C -0.09219 -0.06597 -0.09306 -0.06828 -0.09601 -0.0574 C -0.1033 -0.03078 -0.1073 -0.00185 -0.11875 0.02176 C -0.14931 0.08473 -0.1915 0.17871 -0.24948 0.20394 C -0.2625 0.20949 -0.27379 0.20949 -0.28698 0.21065 C -0.33056 0.20764 -0.37379 0.20695 -0.39098 0.14422 C -0.39566 0.08519 -0.35851 0.02547 -0.31372 0.02037 C -0.30973 0.02176 -0.30539 0.02153 -0.30191 0.02431 C -0.29236 0.03195 -0.28698 0.04977 -0.28212 0.06135 C -0.27743 0.07246 -0.26823 0.0882 -0.26025 0.09561 C -0.24375 0.11088 -0.22414 0.11297 -0.20486 0.11551 C -0.18316 0.11343 -0.16111 0.11412 -0.13959 0.11019 C -0.10087 0.10301 0.00277 0.05301 0.01701 0.04676 C 0.10364 0.00857 0.16718 -0.03125 0.25659 -0.04282 C 0.3052 -0.04213 0.32066 -0.05277 0.35451 -0.02963 C 0.35781 -0.02338 0.3585 -0.02453 0.35156 -0.01527 C 0.33958 0.000700000000000001 0.31597 0.00232 0.30104 0.00602 C 0.19392 -0.00069 0.08698 -0.02152 -0.00782 -0.09305 C -0.01927 -0.11111 -0.02205 -0.13333 -0.00382 -0.14722 C 0.0177 -0.16365 0.04687 -0.1625 0.07031 -0.16435 C 0.1302 -0.15763 0.18402 -0.15926 0.23281 -0.10902 C 0.24913 -0.06875 0.21684 -0.02384 0.19514 -0.00069 C 0.15764 0.03889 0.1158 0.04445 0.07031 0.05348 C 0.05711 0.05602 0.04392 0.05996 0.03073 0.06274 C 0.01892 0.06528 0.00694 0.06713 -0.00486 0.06922 C -0.01077 0.07223 -0.01684 0.07524 -0.02275 0.07848 C -0.02483 0.07963 -0.02778 0.07987 -0.02865 0.08241 C -0.02917 0.08403 -0.02605 0.08334 -0.02466 0.0838 C -0.02101 0.08473 -0.01736 0.08588 -0.01372 0.08658 C -0.00712 0.08797 -0.00052 0.08982 0.00607 0.09051 C 0.02152 0.09213 0.03715 0.09213 0.0526 0.09306 C 0.10538 0.09908 0.17951 0.09908 0.22586 0.13658 C 0.21076 0.16436 0.17239 0.15741 0.15052 0.15903 C 0.12604 0.15718 0.10173 0.15463 0.07725 0.15348 C 0.0559 0.15255 0.06007 0.15093 0.04965 0.15764 C 0.05538 0.16574 0.06649 0.16621 0.0743 0.16829 C 0.09357 0.1669 0.1243 0.18264 0.13177 0.15903 C 0.1335 0.15348 0.12586 0.14977 0.12187 0.14723 C 0.1085 0.13866 0.09479 0.13125 0.08125 0.12338 C 0.07274 0.11829 0.06336 0.11667 0.05451 0.11297 C 0.02326 0.09908 -0.02066 0.08102 -0.04254 0.04561 C -0.03143 0.03079 0.00833 0.02107 0.02187 0.01644 C 0.02205 0.01644 0.05156 0.00695 0.05156 0.0007 E">
                                      <p:cBhvr>
                                        <p:cTn id="48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The International System (SI) of metric units has numerous “base units”.  Base Units are basic units of measurement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ff"/>
                </a:solidFill>
                <a:latin typeface="Berlin Sans FB"/>
              </a:rPr>
              <a:t>E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metre “m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gram “g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 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second “s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mole “mol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What are SI Uni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4" name="" descr="http://www2.waterforduhs.k12.wi.us/staffweb/Sciencefolder/Mole%20Day/MOLE_DAY_EXPLOD.gif"/>
          <p:cNvPicPr/>
          <p:nvPr/>
        </p:nvPicPr>
        <p:blipFill>
          <a:blip r:embed="rId1"/>
          <a:stretch/>
        </p:blipFill>
        <p:spPr>
          <a:xfrm>
            <a:off x="5715000" y="3562200"/>
            <a:ext cx="3286080" cy="329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4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Rockwell"/>
              </a:rPr>
              <a:t>Some important equivalences used in chemistry are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 mL = 10 m³          1 m³ = 10 L³          1 t = 10³ k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7e200"/>
                </a:solidFill>
                <a:latin typeface="Constantia"/>
              </a:rPr>
              <a:t>REMEMBER THIS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15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7e200"/>
                </a:solidFill>
                <a:latin typeface="Lucida Sans"/>
              </a:rPr>
              <a:t>Quiz Time!!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Rockwell"/>
              </a:rPr>
              <a:t>Try to answer these 3 questions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____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____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____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3886200"/>
            <a:ext cx="307656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Constantia"/>
              </a:rPr>
              <a:t>If you answered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50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10⁴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e7e200"/>
                </a:solidFill>
                <a:latin typeface="Constantia"/>
              </a:rPr>
              <a:t>Then you are CORRECT!!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alibri"/>
              </a:rPr>
              <a:t>PREFIX AND UNIT SYMBOLS AND EXPONENTIAL EQUIVALEN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97144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mbols are symbols that go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efor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adding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to a base un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ould make 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xponential Equivale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valu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e7e200"/>
                </a:solidFill>
                <a:latin typeface="Rockwell"/>
              </a:rPr>
              <a:t>³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25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Re-writing 2.7 x 10⁻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r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i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quivalen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x 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enti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becaus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loo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r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ly ad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 togeth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orming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 answ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uld b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centimeter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Cent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        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Mill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4968720"/>
            <a:ext cx="221004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350"/>
                            </p:stCondLst>
                            <p:childTnLst>
                              <p:par>
                                <p:cTn id="268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850"/>
                            </p:stCondLst>
                            <p:childTnLst>
                              <p:par>
                                <p:cTn id="2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200"/>
                            </p:stCondLst>
                            <p:childTnLst>
                              <p:par>
                                <p:cTn id="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8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3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40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Calibri"/>
              </a:rPr>
              <a:t>Try Thi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259056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200"/>
                </a:solidFill>
                <a:latin typeface="Constantia"/>
              </a:rPr>
              <a:t>REWRITE the following using PREFIX and UNIT SYMBOLS and EXPONENTIAL EQUIVALENT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7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8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9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30,-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A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centimeters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C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  Exponential Exponent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B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" descr="good_luck.gif good luck picture by bhailey_2006"/>
          <p:cNvPicPr/>
          <p:nvPr/>
        </p:nvPicPr>
        <p:blipFill>
          <a:blip r:embed="rId1"/>
          <a:stretch/>
        </p:blipFill>
        <p:spPr>
          <a:xfrm>
            <a:off x="4952880" y="3657600"/>
            <a:ext cx="3314880" cy="28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2:38:56Z</dcterms:created>
  <dc:creator>Kam</dc:creator>
  <dc:description/>
  <dc:language>en-US</dc:language>
  <cp:lastModifiedBy>Chris</cp:lastModifiedBy>
  <dcterms:modified xsi:type="dcterms:W3CDTF">2009-02-26T03:22:09Z</dcterms:modified>
  <cp:revision>52</cp:revision>
  <dc:subject/>
  <dc:title>Slide 1</dc:title>
</cp:coreProperties>
</file>