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2D5-8748-43E4-B7A3-3C9B5D75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12B-EBD5-4E8C-8B9A-43ECCCF1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9C6C-E702-429B-A1BA-47EA5EA0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4E38-4F8C-44BF-99E3-D19E92D4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3792-7049-4D9B-B9F5-8F73F6F2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A3F5-28F4-44BA-89EC-F77FC08C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A83B-A92D-481D-ACE2-B95CBF44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11A4-7F5B-4297-ADE5-88A2F21B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B05A-D983-4F27-8CE2-B5C44C19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8C34-775D-4764-845A-94CA5BD8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AEAC-81C5-4242-AC30-22C28EBF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EAB-9D2E-4A94-B320-8C6ACA0A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3F0F-6FFD-451B-874A-51BF21CD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6903-737D-448B-B13E-16F1538E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ECE8-BD08-4728-88E3-6D508240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C3BD-3846-41A1-91E9-F979659D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CFDE-D94A-474A-81A2-23DEED64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375F-61A9-4D5B-845D-4F922720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EF9E-F15F-4896-9EE9-08CED6F8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973-64DC-44AA-A9B0-D9B44DB0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712-4B11-42F2-AFB5-2D853404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429-AD25-48C3-90CC-0574E3F5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C9C-BDC6-4819-AE28-933763A5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52AA-5BC8-415F-BAAD-AF4572FC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4EF8-1518-46BC-B267-303D4887C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BA75-5827-459F-A0E5-A9F832F860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usetute.com.au/mmcalcul.html" TargetMode="External"/><Relationship Id="rId2" Type="http://schemas.openxmlformats.org/officeDocument/2006/relationships/hyperlink" Target="http://www.ausetute.com.au/mmcalcul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odditoriumstore.com/images/buttons/clean%2520funny/100%2520mad.gif&amp;imgrefurl=http://www.odditoriumstore.com/HumorousButtons1.htm&amp;usg=__IsK-gHR8B_A9xY_2m1x8u0RHRhs=&amp;h=495&amp;w=497&amp;sz=13&amp;hl=en&amp;start=9&amp;um=1&amp;tbnid=ibkLqBtxKbOx0M:&amp;tbnh=129&amp;tbnw=130&amp;prev=/images%3Fq%3Dpercent%2Bman%26um%3D1%26hl%3Den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nt Compos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By: May W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Irene W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Ashley W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Ibuprofen-3D-balls" descr=""/>
          <p:cNvPicPr/>
          <p:nvPr/>
        </p:nvPicPr>
        <p:blipFill>
          <a:blip r:embed="rId2"/>
          <a:stretch/>
        </p:blipFill>
        <p:spPr>
          <a:xfrm>
            <a:off x="1371600" y="-152280"/>
            <a:ext cx="6019920" cy="3271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The Answer……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132" name="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360" bIns="-4536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57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4" name="070322_twittering_ninja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7924680" cy="4432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81280" y="4419720"/>
            <a:ext cx="2819520" cy="2133360"/>
          </a:xfrm>
          <a:prstGeom prst="wedgeEllipseCallout">
            <a:avLst>
              <a:gd name="adj1" fmla="val 10078"/>
              <a:gd name="adj2" fmla="val -59523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Times New Roman"/>
              </a:rPr>
              <a:t>Wait… the answer to the question i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C</a:t>
            </a:r>
            <a:r>
              <a:rPr b="1" lang="en" sz="1800" spc="-1" strike="noStrike" baseline="-30000">
                <a:solidFill>
                  <a:srgbClr val="cc00ff"/>
                </a:solidFill>
                <a:latin typeface="Times New Roman"/>
                <a:ea typeface="Times New Roman"/>
              </a:rPr>
              <a:t>3 </a:t>
            </a:r>
            <a:r>
              <a:rPr b="1" lang="en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H</a:t>
            </a:r>
            <a:r>
              <a:rPr b="1" lang="en" sz="1800" spc="-1" strike="noStrike" baseline="-30000">
                <a:solidFill>
                  <a:srgbClr val="cc00ff"/>
                </a:solidFill>
                <a:latin typeface="Times New Roman"/>
                <a:ea typeface="Times New Roman"/>
              </a:rPr>
              <a:t>4 </a:t>
            </a:r>
            <a:r>
              <a:rPr b="1" lang="en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O</a:t>
            </a:r>
            <a:r>
              <a:rPr b="1" lang="en" sz="1800" spc="-1" strike="noStrike" baseline="-30000">
                <a:solidFill>
                  <a:srgbClr val="cc00ff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cc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You have  mastered the art of % composi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or obstacles cannot stop you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matter what questions Ms. Kim gives you… you will be ready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energy_kids222" descr=""/>
          <p:cNvPicPr/>
          <p:nvPr/>
        </p:nvPicPr>
        <p:blipFill>
          <a:blip r:embed="rId1"/>
          <a:stretch/>
        </p:blipFill>
        <p:spPr>
          <a:xfrm>
            <a:off x="685800" y="1979640"/>
            <a:ext cx="3809880" cy="3776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centage Composition??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percentage (by mass) of an element that is in a chemical form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Easy calculations: formula is given and you find the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er calculation: given % of mass and you find the form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EVER EVER ROUND BEFORE THE LAST STEP, ALWAYS KEEP 3-4 DIGITS AFTER THE DECIMAL!!!!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formula’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ecular formula: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ual # of atoms in each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Empirical formula: </a:t>
            </a:r>
            <a:r>
              <a:rPr b="0" lang="en-US" sz="2000" spc="-1" strike="noStrike">
                <a:solidFill>
                  <a:srgbClr val="cc00ff"/>
                </a:solidFill>
                <a:latin typeface="Times New Roman"/>
              </a:rPr>
              <a:t>Simplest ratio of elements present in a compo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Example: Nicot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lecular formula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erical Formula: 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6699ff"/>
                </a:solidFill>
                <a:latin typeface="Times New Roman"/>
              </a:rPr>
              <a:t>% Composition of: </a:t>
            </a:r>
            <a:r>
              <a:rPr b="1" lang="en" sz="44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H</a:t>
            </a:r>
            <a:r>
              <a:rPr b="1" lang="en" sz="4400" spc="-1" strike="noStrike" baseline="-30000">
                <a:solidFill>
                  <a:srgbClr val="6699ff"/>
                </a:solidFill>
                <a:latin typeface="Times New Roman"/>
                <a:ea typeface="Times New Roman"/>
              </a:rPr>
              <a:t>2</a:t>
            </a:r>
            <a:r>
              <a:rPr b="1" lang="en" sz="44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SO</a:t>
            </a:r>
            <a:r>
              <a:rPr b="1" lang="en" sz="4400" spc="-1" strike="noStrike" baseline="-30000">
                <a:solidFill>
                  <a:srgbClr val="6699ff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24280" y="1676160"/>
            <a:ext cx="3810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is 2.0g, S is 32.1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is 64.0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2. 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ea typeface="Times New Roman"/>
                <a:hlinkClick r:id="rId1"/>
              </a:rPr>
              <a:t>molecular mass</a:t>
            </a:r>
            <a:r>
              <a:rPr b="0" lang="en-US" sz="1800" spc="-1" strike="noStrike">
                <a:solidFill>
                  <a:srgbClr val="cc00ff"/>
                </a:solidFill>
                <a:latin typeface="Verdana"/>
              </a:rPr>
              <a:t>: 98.1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H in compound = 2.0g/ 98.1g x 100% = </a:t>
            </a:r>
            <a:r>
              <a:rPr b="1" lang="en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2.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S in compound = 32.1g/ 98.1g x 100% = </a:t>
            </a:r>
            <a:r>
              <a:rPr b="0" lang="en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32.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O in compound = 64.0g/ 98.1g x 100% = </a:t>
            </a:r>
            <a:r>
              <a:rPr b="0" lang="en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65.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880" y="1828800"/>
            <a:ext cx="3810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Verdana"/>
              </a:rPr>
              <a:t>To calculate the percent composition (percentage composition of a compound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Calculate the 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2"/>
              </a:rPr>
              <a:t>molecular mas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 Mass per elemen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Verdana"/>
              </a:rPr>
              <a:t>2. Calculate the total mass of each element present in the formula of the compou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Calculate the percent compositon (percentage composition): % = (total mass of element present ÷ molecular mass) x 10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caffeine" descr=""/>
          <p:cNvPicPr/>
          <p:nvPr/>
        </p:nvPicPr>
        <p:blipFill>
          <a:blip r:embed="rId3"/>
          <a:stretch/>
        </p:blipFill>
        <p:spPr>
          <a:xfrm>
            <a:off x="7467480" y="5334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% to Formula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you ready for the hard part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will need your Hebden page 93 of your decimal equivalent chart to help you understand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BGT1133" descr=""/>
          <p:cNvPicPr/>
          <p:nvPr/>
        </p:nvPicPr>
        <p:blipFill>
          <a:blip r:embed="rId1"/>
          <a:stretch/>
        </p:blipFill>
        <p:spPr>
          <a:xfrm>
            <a:off x="1000080" y="1641600"/>
            <a:ext cx="3179880" cy="4454280"/>
          </a:xfrm>
          <a:prstGeom prst="rect">
            <a:avLst/>
          </a:prstGeom>
          <a:ln w="0">
            <a:noFill/>
          </a:ln>
        </p:spPr>
      </p:pic>
      <p:pic>
        <p:nvPicPr>
          <p:cNvPr id="110" name="Hebden%2011%20cover" descr=""/>
          <p:cNvPicPr/>
          <p:nvPr/>
        </p:nvPicPr>
        <p:blipFill>
          <a:blip r:embed="rId2"/>
          <a:stretch/>
        </p:blipFill>
        <p:spPr>
          <a:xfrm>
            <a:off x="7162920" y="4419720"/>
            <a:ext cx="1585800" cy="2043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re We go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609480"/>
            <a:ext cx="1904760" cy="1890720"/>
          </a:xfrm>
          <a:prstGeom prst="rect">
            <a:avLst/>
          </a:prstGeom>
          <a:ln w="0">
            <a:noFill/>
          </a:ln>
        </p:spPr>
      </p:pic>
      <p:pic>
        <p:nvPicPr>
          <p:cNvPr id="113" name="images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905120" cy="1806840"/>
          </a:xfrm>
          <a:prstGeom prst="rect">
            <a:avLst/>
          </a:prstGeom>
          <a:ln w="0">
            <a:noFill/>
          </a:ln>
        </p:spPr>
      </p:pic>
      <p:pic>
        <p:nvPicPr>
          <p:cNvPr id="114" name="ninja" descr=""/>
          <p:cNvPicPr/>
          <p:nvPr/>
        </p:nvPicPr>
        <p:blipFill>
          <a:blip r:embed="rId4"/>
          <a:stretch/>
        </p:blipFill>
        <p:spPr>
          <a:xfrm>
            <a:off x="609480" y="2666880"/>
            <a:ext cx="3810240" cy="3206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9880" y="1371600"/>
            <a:ext cx="5105520" cy="22096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295280"/>
            <a:ext cx="5334120" cy="2514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34290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1752480"/>
            <a:ext cx="3962520" cy="2514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I am the % composi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ninja the top graduate of Ms. Kim’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Chemistry class!!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Question…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C contains carbon, hydrogen, and oxygen in the following proportions: 40.9% C, 4.58% H, 54.5% O. Find the emperical formu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0114-0704-0403-5944" descr=""/>
          <p:cNvPicPr/>
          <p:nvPr/>
        </p:nvPicPr>
        <p:blipFill>
          <a:blip r:embed="rId1"/>
          <a:stretch/>
        </p:blipFill>
        <p:spPr>
          <a:xfrm>
            <a:off x="1828800" y="5487840"/>
            <a:ext cx="2324160" cy="1370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95680" y="3276720"/>
            <a:ext cx="4419720" cy="16761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568"/>
                </a:solidFill>
                <a:latin typeface="Times New Roman"/>
              </a:rPr>
              <a:t>Fight to the percent composition death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 1…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Assume there is 100g ( change the % to 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Find the mole of each el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.9g x (1mol C/ 12.0g C) = 3.41 mol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58H x (1 mol H / 1.01g H) = 4.53 mol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4.5g O x (1 mol O/ 16.0g O) = 3.41 mol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get this:  </a:t>
            </a:r>
            <a:r>
              <a:rPr b="1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.41 </a:t>
            </a:r>
            <a:r>
              <a:rPr b="1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.53 </a:t>
            </a:r>
            <a:r>
              <a:rPr b="1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.4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 2…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The lowest mole value  is 3.41, so you divide all the others by 3.41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= 3.41/ 3.41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= 3.41/ 3.41 = 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 = 4.53/ 3.41 = 1.33 (This one is not a whole number so you have to multiply it all by 3 (Mole Ratio)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= 3.41/ 3.41 = 1 </a:t>
            </a:r>
            <a:r>
              <a:rPr b="1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3 =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= 3.41/ 3.41 = 1 </a:t>
            </a:r>
            <a:r>
              <a:rPr b="1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3 =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 = 4.53/ 3.41 = 1.33 </a:t>
            </a:r>
            <a:r>
              <a:rPr b="1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3 =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Hebden%2011%20cover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586160" cy="2043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29200" y="4876920"/>
            <a:ext cx="1752480" cy="761760"/>
          </a:xfrm>
          <a:prstGeom prst="wedgeRectCallout">
            <a:avLst>
              <a:gd name="adj1" fmla="val 47736"/>
              <a:gd name="adj2" fmla="val 99166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g. 93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8:49:31Z</dcterms:created>
  <dc:creator>Templeton Secondary School</dc:creator>
  <dc:description/>
  <dc:language>en-US</dc:language>
  <cp:lastModifiedBy>rcuser1</cp:lastModifiedBy>
  <dcterms:modified xsi:type="dcterms:W3CDTF">2009-02-25T23:22:12Z</dcterms:modified>
  <cp:revision>6</cp:revision>
  <dc:subject/>
  <dc:title>Slide 1</dc:title>
</cp:coreProperties>
</file>