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2BA-F1DA-4503-99AF-9850B25E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2D1-A5E4-4BFE-9815-9569588E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4F3-A0BF-43E4-8979-3A281CB9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6C9-E799-4014-A7B3-D9FADCF7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C14A-7738-4343-AEC0-66BCF4D0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5E93-2FBA-48A4-9596-4F60E9D8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C7F9-E905-40C2-A405-67B8661C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9B50-486B-4A92-806C-EB64EE57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BCE7-C0EF-4D5B-9F3F-8928411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65A-BF9B-4D6B-A733-FF9A3332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6978-A286-4F53-99B3-171E51B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3AF-C934-45AC-AD5A-B20D33C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82D8-7A84-473C-B1E5-563825B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D0E1-F6E9-479A-9344-FEBB258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AF8-FD60-4DD5-B092-CA0B8C9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F8D8-F739-4A79-9FC5-435B2C75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6AA-7133-4487-B0EF-B6C5190A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51C-A019-4086-8AFC-20757D48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243-B46D-427D-BBCF-2DAB855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D20-EEC6-4841-B618-400C405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D9B-D3C8-4066-9069-1AE901F0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52A-892C-4DD9-8BC2-04BFBC12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1BE-64C3-47D2-8880-12C8DFB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077-733E-4BF5-AC39-0F1660A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DE7-DF00-4265-B603-10E25FE8A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1888-344F-464D-A92C-17F5DBC8A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setute.com.au/mmcalcul.html" TargetMode="External"/><Relationship Id="rId2" Type="http://schemas.openxmlformats.org/officeDocument/2006/relationships/hyperlink" Target="http://www.ausetute.com.au/mmcalcul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odditoriumstore.com/images/buttons/clean%2520funny/100%2520mad.gif&amp;imgrefurl=http://www.odditoriumstore.com/HumorousButtons1.htm&amp;usg=__IsK-gHR8B_A9xY_2m1x8u0RHRhs=&amp;h=495&amp;w=497&amp;sz=13&amp;hl=en&amp;start=9&amp;um=1&amp;tbnid=ibkLqBtxKbOx0M:&amp;tbnh=129&amp;tbnw=130&amp;prev=/images%3Fq%3Dpercent%2Bman%26um%3D1%26hl%3De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Compos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By: Ma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Irene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Ashle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buprofen-3D-balls" descr=""/>
          <p:cNvPicPr/>
          <p:nvPr/>
        </p:nvPicPr>
        <p:blipFill>
          <a:blip r:embed="rId2"/>
          <a:stretch/>
        </p:blipFill>
        <p:spPr>
          <a:xfrm>
            <a:off x="1371600" y="-152280"/>
            <a:ext cx="6019920" cy="3271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The Answer…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132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360" bIns="-453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57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070322_twittering_ninja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924680" cy="443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1280" y="4419720"/>
            <a:ext cx="2819520" cy="2133360"/>
          </a:xfrm>
          <a:prstGeom prst="wedgeEllipseCallout">
            <a:avLst>
              <a:gd name="adj1" fmla="val 10078"/>
              <a:gd name="adj2" fmla="val -59523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Wait… the answer to the question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C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H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4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O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You have  mastered the art of % com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r obstacles cannot stop you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atter what questions Ms. Kim gives you… you will be read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energy_kids222" descr=""/>
          <p:cNvPicPr/>
          <p:nvPr/>
        </p:nvPicPr>
        <p:blipFill>
          <a:blip r:embed="rId1"/>
          <a:stretch/>
        </p:blipFill>
        <p:spPr>
          <a:xfrm>
            <a:off x="685800" y="1979640"/>
            <a:ext cx="3809880" cy="3776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centage Composition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percentage (by mass) of an element that is in a chemical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asy calculations: formula is given and you find the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calculation: given % of mass and you find the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EVER EVER ROUND BEFORE THE LAST STEP, ALWAYS KEEP 3-4 DIGITS AFTER THE DECIMAL!!!!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formula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ar formula: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ual # of atoms in each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Empirical formula: </a:t>
            </a: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Simplest ratio of elements present in a comp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Example: Nico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lecular formul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erical Formula: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% Composition of: 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H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2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SO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is 2.0g, S is 32.1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is 64.0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ea typeface="Times New Roman"/>
                <a:hlinkClick r:id="rId1"/>
              </a:rPr>
              <a:t>molecular mass</a:t>
            </a: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: 98.1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H in compound = 2.0g/ 98.1g x 100% = </a:t>
            </a:r>
            <a:r>
              <a:rPr b="1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.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S in compound = 32.1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32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 in compound = 64.0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65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1828800"/>
            <a:ext cx="3810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Verdana"/>
              </a:rPr>
              <a:t>To calculate the percent composition (percentage composition of a compound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alculate the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molecular m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Mass per ele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2. Calculate the total mass of each element present in the formula of the compou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alculate the percent compositon (percentage composition): % = (total mass of element present ÷ molecular mass) x 10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affeine" descr=""/>
          <p:cNvPicPr/>
          <p:nvPr/>
        </p:nvPicPr>
        <p:blipFill>
          <a:blip r:embed="rId3"/>
          <a:stretch/>
        </p:blipFill>
        <p:spPr>
          <a:xfrm>
            <a:off x="746748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% to Formula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you ready for the hard par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your Hebden page 93 of your decimal equivalent chart to help you understan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GT1133" descr=""/>
          <p:cNvPicPr/>
          <p:nvPr/>
        </p:nvPicPr>
        <p:blipFill>
          <a:blip r:embed="rId1"/>
          <a:stretch/>
        </p:blipFill>
        <p:spPr>
          <a:xfrm>
            <a:off x="1000080" y="1641600"/>
            <a:ext cx="3179880" cy="4454280"/>
          </a:xfrm>
          <a:prstGeom prst="rect">
            <a:avLst/>
          </a:prstGeom>
          <a:ln w="0">
            <a:noFill/>
          </a:ln>
        </p:spPr>
      </p:pic>
      <p:pic>
        <p:nvPicPr>
          <p:cNvPr id="110" name="Hebden%2011%20cover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585800" cy="204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e We go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1904760" cy="189072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90512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ninja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810240" cy="3206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371600"/>
            <a:ext cx="5105520" cy="22096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295280"/>
            <a:ext cx="53341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4290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752480"/>
            <a:ext cx="39625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 am the % compos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ninja the top graduate of Ms. Kim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Chemistry class!!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Question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contains carbon, hydrogen, and oxygen in the following proportions: 40.9% C, 4.58% H, 54.5% O. Find the emperical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0114-0704-0403-5944" descr=""/>
          <p:cNvPicPr/>
          <p:nvPr/>
        </p:nvPicPr>
        <p:blipFill>
          <a:blip r:embed="rId1"/>
          <a:stretch/>
        </p:blipFill>
        <p:spPr>
          <a:xfrm>
            <a:off x="1828800" y="5487840"/>
            <a:ext cx="2324160" cy="137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95680" y="3276720"/>
            <a:ext cx="4419720" cy="16761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Fight to the percent composition death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Assume there is 100g ( change the % to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Find the mole of each 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.9g x (1mol C/ 12.0g C) = 3.41 mol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8H x (1 mol H / 1.01g H) = 4.53 mol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.5g O x (1 mol O/ 16.0g O) = 3.41 mol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get this: 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.53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he lowest mole value  is 3.41, so you divide all the others by 3.4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(This one is not a whole number so you have to multiply it all by 3 (Mole Ratio)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Hebden%2011%20cover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86160" cy="20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4876920"/>
            <a:ext cx="1752480" cy="761760"/>
          </a:xfrm>
          <a:prstGeom prst="wedgeRectCallout">
            <a:avLst>
              <a:gd name="adj1" fmla="val 47736"/>
              <a:gd name="adj2" fmla="val 9916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g. 93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49:31Z</dcterms:created>
  <dc:creator>Templeton Secondary School</dc:creator>
  <dc:description/>
  <dc:language>en-US</dc:language>
  <cp:lastModifiedBy>rcuser1</cp:lastModifiedBy>
  <dcterms:modified xsi:type="dcterms:W3CDTF">2009-02-25T23:22:12Z</dcterms:modified>
  <cp:revision>6</cp:revision>
  <dc:subject/>
  <dc:title>Slide 1</dc:title>
</cp:coreProperties>
</file>