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9A1-C1C8-480C-839A-A0B1256C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4F4-F4C2-4A90-859A-86C9009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F7E-B894-4D95-8070-D50AA0A3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84B-AD74-4495-89BA-A3054422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C9A-0A21-4547-8ABB-9ABA122D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9CA-B472-41EA-A1A2-66156055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D58-7261-4053-B109-BC30F9D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DB9-5A63-4F2E-B9D3-CDF82CFB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3B1-ED79-4E19-9461-1A09127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EAC-4841-43E7-82C7-1418B89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662-F021-4DBD-9D13-7714982B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4E6-C948-4501-AD4B-E2945795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9468-ACFD-4D84-B6F9-3BCDEB25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6:02:50Z</dcterms:created>
  <dc:creator>Templeton Secondary School</dc:creator>
  <dc:description/>
  <dc:language>en-US</dc:language>
  <cp:lastModifiedBy>Templeton Secondary School</cp:lastModifiedBy>
  <dcterms:modified xsi:type="dcterms:W3CDTF">2008-09-19T16:03:14Z</dcterms:modified>
  <cp:revision>1</cp:revision>
  <dc:subject/>
  <dc:title>Hi</dc:title>
</cp:coreProperties>
</file>