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435F-63B9-439E-AFFC-B13107D8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857-D366-403A-8A25-749855A4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0C5-2E8E-46A5-8E0B-ED5317A5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F31-F1C2-404A-B8E0-3A3C5BEB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82E-BBB9-4B17-BB6A-ACA4A9CC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D1E-F0E2-489D-907B-159D2FB7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209-9365-4578-B703-4C65CC08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9C7-ECFE-4D0B-82FE-634E749E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88E-BE37-4D44-8FE1-C69669AD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99C-330F-47F6-8E15-BF622862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04B-0CA0-4C32-B1A4-E752183A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A77-B8B4-4879-AE47-F86932A2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6347-3027-4898-8A50-6EB3F0C16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6:02:50Z</dcterms:created>
  <dc:creator>Templeton Secondary School</dc:creator>
  <dc:description/>
  <dc:language>en-US</dc:language>
  <cp:lastModifiedBy>Templeton Secondary School</cp:lastModifiedBy>
  <dcterms:modified xsi:type="dcterms:W3CDTF">2008-09-19T16:03:14Z</dcterms:modified>
  <cp:revision>1</cp:revision>
  <dc:subject/>
  <dc:title>Hi</dc:title>
</cp:coreProperties>
</file>