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60DE-A4A3-45C0-946A-31696C8D9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EC94-6290-4540-AD9C-B78DAB3AE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5714-015D-4E68-945B-E6C035988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85A5-3ADE-4842-A7B0-623AB1B90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5B65-A6E1-4CD7-BA3A-C86760AF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4C6B-BA52-4A65-9D31-74BA32B6F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29ED-08F2-401F-B4F9-3EC97782E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3829-A42E-4445-BED1-EC47F7962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28EC-CDA8-4EE6-A9E3-EE89B34B8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0DC5-4670-4A35-A015-B99D69C8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6883-54B7-4554-8C18-DBD69E27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12D7-C3F3-4E6A-A3F1-C440CCE8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D5759-7EA4-4B75-BEC4-2412753E60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16:02:50Z</dcterms:created>
  <dc:creator>Templeton Secondary School</dc:creator>
  <dc:description/>
  <dc:language>en-US</dc:language>
  <cp:lastModifiedBy>Templeton Secondary School</cp:lastModifiedBy>
  <dcterms:modified xsi:type="dcterms:W3CDTF">2008-09-19T16:03:14Z</dcterms:modified>
  <cp:revision>1</cp:revision>
  <dc:subject/>
  <dc:title>Hi</dc:title>
</cp:coreProperties>
</file>