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F6F-05C1-4B2A-BC8D-C4B144D0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595-374A-4B32-9258-007BFA6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52A-8324-4217-9F0C-01070A5A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C29-88E6-4B47-BB79-C5E2B3DC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30-DB4F-4B96-BEFC-9DE1C458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37D-A61B-4CF7-8F6E-82A4A3D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538-EE48-4F16-98B4-EF500DE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A3E-946B-43D4-B20C-C212C3B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DC0-1197-4B34-99C8-C998E20B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383-0054-41E6-9E8E-CD91459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142-F4A0-4313-B27C-399B628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70F-ECCB-4C92-ABE6-9FDCFE2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689-64E5-4AFA-91C6-2724F907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6:02:50Z</dcterms:created>
  <dc:creator>Templeton Secondary School</dc:creator>
  <dc:description/>
  <dc:language>en-US</dc:language>
  <cp:lastModifiedBy>Templeton Secondary School</cp:lastModifiedBy>
  <dcterms:modified xsi:type="dcterms:W3CDTF">2008-09-19T16:03:14Z</dcterms:modified>
  <cp:revision>1</cp:revision>
  <dc:subject/>
  <dc:title>Hi</dc:title>
</cp:coreProperties>
</file>